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85760" y="41871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8576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844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85760" y="41871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8440" y="41871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85760" y="16002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13760" y="16002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41400" y="16002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85760" y="41871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13760" y="41871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41400" y="41871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D67A-33C4-40CC-9630-DD0D42640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90D6-7751-4924-9D8B-6AD13F12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A3B0-9DBE-40C8-8474-11E11F31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85760" y="16002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440" y="16002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1B7E-48BB-4884-A4B9-C02C4CE1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6F34-FE28-41F4-AB5A-3EE849F9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0" y="79200"/>
            <a:ext cx="91440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1543-D39F-4F62-9503-A6041627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576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68440" y="16002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085760" y="41871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E6CB-465E-4627-926F-2F9AEB05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5760" y="16002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6844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68440" y="41871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241C-49A6-48BC-8917-59DC7001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8576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6844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085760" y="41871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5908-FF05-4187-B17C-DEBB294E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085760" y="41871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AF4B-0282-4A91-8EC4-8E64ABA9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576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844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85760" y="41871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068440" y="41871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E622-8FA0-4B74-939C-555ED579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85760" y="16002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713760" y="16002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341400" y="16002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085760" y="41871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713760" y="41871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341400" y="41871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B5C4-4938-4B72-B94C-DB5F45262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85760" y="16002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8440" y="16002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79200"/>
            <a:ext cx="91440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8576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8440" y="16002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85760" y="41871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5760" y="16002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8440" y="41871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576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85760" y="41871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50000">
                <a:srgbClr val="000000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66ff33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1001"/>
              </a:spcBef>
              <a:buClr>
                <a:srgbClr val="66ff33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1001"/>
              </a:spcBef>
              <a:buClr>
                <a:srgbClr val="66ff33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36120" indent="-219240">
              <a:spcBef>
                <a:spcPts val="1001"/>
              </a:spcBef>
              <a:buClr>
                <a:srgbClr val="66ff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4" marL="1974960" indent="-219240">
              <a:spcBef>
                <a:spcPts val="1001"/>
              </a:spcBef>
              <a:buClr>
                <a:srgbClr val="66ff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5" marL="1974960" indent="-219240">
              <a:spcBef>
                <a:spcPts val="10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6" marL="1974960" indent="-219240">
              <a:spcBef>
                <a:spcPts val="10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0"/>
          <p:cNvSpPr/>
          <p:nvPr/>
        </p:nvSpPr>
        <p:spPr>
          <a:xfrm>
            <a:off x="762120" y="993600"/>
            <a:ext cx="8381880" cy="76320"/>
          </a:xfrm>
          <a:prstGeom prst="rect">
            <a:avLst/>
          </a:prstGeom>
          <a:gradFill rotWithShape="0">
            <a:gsLst>
              <a:gs pos="0">
                <a:srgbClr val="000093"/>
              </a:gs>
              <a:gs pos="100000">
                <a:srgbClr val="0000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33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41" name="Rectangle 2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" name="Group 32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43" name="Rectangle 3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Rectangle 4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Rectangle 5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Rectangle 6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Rectangle 7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Rectangle 8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Rectangle 9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Rectangle 10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Rectangle 11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Rectangle 12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Rectangle 15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Rectangle 16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Rectangle 17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Rectangle 18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Rectangle 19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Rectangle 20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Rectangle 21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Rectangle 22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Rectangle 23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Rectangle 24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Rectangle 25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Rectangle 26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Rectangle 27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Rectangle 28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Rectangle 29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Rectangle 30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Rectangle 31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66ff33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1001"/>
              </a:spcBef>
              <a:buClr>
                <a:srgbClr val="66ff33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1001"/>
              </a:spcBef>
              <a:buClr>
                <a:srgbClr val="66ff33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36120" indent="-219240">
              <a:spcBef>
                <a:spcPts val="1001"/>
              </a:spcBef>
              <a:buClr>
                <a:srgbClr val="66ff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4" marL="1974960" indent="-219240">
              <a:spcBef>
                <a:spcPts val="1001"/>
              </a:spcBef>
              <a:buClr>
                <a:srgbClr val="66ff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5" marL="1974960" indent="-219240">
              <a:spcBef>
                <a:spcPts val="10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6" marL="1974960" indent="-219240">
              <a:spcBef>
                <a:spcPts val="10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DABA-B863-49EF-9670-190FA7BF4D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5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28" descr="G:\Accounting-Careers\Projects\ENTRESBM\PowerPoint Presentations\Cover2.gif"/>
          <p:cNvPicPr/>
          <p:nvPr/>
        </p:nvPicPr>
        <p:blipFill>
          <a:blip r:embed="rId1"/>
          <a:stretch/>
        </p:blipFill>
        <p:spPr>
          <a:xfrm>
            <a:off x="4091040" y="1069920"/>
            <a:ext cx="4976640" cy="56358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en-US" sz="5700" spc="-1" strike="noStrike">
                <a:solidFill>
                  <a:srgbClr val="ff3300"/>
                </a:solidFill>
                <a:latin typeface="Times New Roman"/>
              </a:rPr>
              <a:t>PowerPoint Presentation</a:t>
            </a:r>
            <a:endParaRPr b="1" lang="en-US" sz="57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5760" y="160020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ff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Section 16.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33ff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Pages 273-279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33ff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53 Slid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Freeform 1029"/>
          <p:cNvSpPr/>
          <p:nvPr/>
        </p:nvSpPr>
        <p:spPr>
          <a:xfrm>
            <a:off x="304920" y="990720"/>
            <a:ext cx="669960" cy="468360"/>
          </a:xfrm>
          <a:custGeom>
            <a:avLst/>
            <a:gdLst/>
            <a:ahLst/>
            <a:rect l="l" t="t" r="r" b="b"/>
            <a:pathLst>
              <a:path w="718" h="1500">
                <a:moveTo>
                  <a:pt x="276" y="146"/>
                </a:moveTo>
                <a:lnTo>
                  <a:pt x="445" y="146"/>
                </a:lnTo>
                <a:lnTo>
                  <a:pt x="445" y="0"/>
                </a:lnTo>
                <a:lnTo>
                  <a:pt x="529" y="0"/>
                </a:lnTo>
                <a:lnTo>
                  <a:pt x="529" y="146"/>
                </a:lnTo>
                <a:lnTo>
                  <a:pt x="718" y="333"/>
                </a:lnTo>
                <a:lnTo>
                  <a:pt x="718" y="542"/>
                </a:lnTo>
                <a:lnTo>
                  <a:pt x="485" y="542"/>
                </a:lnTo>
                <a:lnTo>
                  <a:pt x="485" y="374"/>
                </a:lnTo>
                <a:lnTo>
                  <a:pt x="255" y="374"/>
                </a:lnTo>
                <a:lnTo>
                  <a:pt x="255" y="646"/>
                </a:lnTo>
                <a:lnTo>
                  <a:pt x="550" y="646"/>
                </a:lnTo>
                <a:lnTo>
                  <a:pt x="718" y="813"/>
                </a:lnTo>
                <a:lnTo>
                  <a:pt x="718" y="1167"/>
                </a:lnTo>
                <a:lnTo>
                  <a:pt x="529" y="1354"/>
                </a:lnTo>
                <a:lnTo>
                  <a:pt x="529" y="1500"/>
                </a:lnTo>
                <a:lnTo>
                  <a:pt x="445" y="1500"/>
                </a:lnTo>
                <a:lnTo>
                  <a:pt x="445" y="1354"/>
                </a:lnTo>
                <a:lnTo>
                  <a:pt x="276" y="1354"/>
                </a:lnTo>
                <a:lnTo>
                  <a:pt x="276" y="1500"/>
                </a:lnTo>
                <a:lnTo>
                  <a:pt x="190" y="1500"/>
                </a:lnTo>
                <a:lnTo>
                  <a:pt x="190" y="1354"/>
                </a:lnTo>
                <a:lnTo>
                  <a:pt x="0" y="1167"/>
                </a:lnTo>
                <a:lnTo>
                  <a:pt x="0" y="999"/>
                </a:lnTo>
                <a:lnTo>
                  <a:pt x="255" y="999"/>
                </a:lnTo>
                <a:lnTo>
                  <a:pt x="255" y="1146"/>
                </a:lnTo>
                <a:lnTo>
                  <a:pt x="485" y="1146"/>
                </a:lnTo>
                <a:lnTo>
                  <a:pt x="485" y="875"/>
                </a:lnTo>
                <a:lnTo>
                  <a:pt x="190" y="875"/>
                </a:lnTo>
                <a:lnTo>
                  <a:pt x="0" y="689"/>
                </a:lnTo>
                <a:lnTo>
                  <a:pt x="0" y="333"/>
                </a:lnTo>
                <a:lnTo>
                  <a:pt x="190" y="146"/>
                </a:lnTo>
                <a:lnTo>
                  <a:pt x="190" y="0"/>
                </a:lnTo>
                <a:lnTo>
                  <a:pt x="276" y="0"/>
                </a:lnTo>
                <a:lnTo>
                  <a:pt x="276" y="14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Freeform 1030"/>
          <p:cNvSpPr/>
          <p:nvPr/>
        </p:nvSpPr>
        <p:spPr>
          <a:xfrm rot="16200000">
            <a:off x="-2182320" y="3858840"/>
            <a:ext cx="5127480" cy="152280"/>
          </a:xfrm>
          <a:custGeom>
            <a:avLst/>
            <a:gdLst/>
            <a:ahLst/>
            <a:rect l="l" t="t" r="r" b="b"/>
            <a:pathLst>
              <a:path w="3954" h="1098">
                <a:moveTo>
                  <a:pt x="0" y="176"/>
                </a:moveTo>
                <a:lnTo>
                  <a:pt x="3327" y="176"/>
                </a:lnTo>
                <a:lnTo>
                  <a:pt x="3327" y="0"/>
                </a:lnTo>
                <a:lnTo>
                  <a:pt x="3954" y="567"/>
                </a:lnTo>
                <a:lnTo>
                  <a:pt x="3327" y="1098"/>
                </a:lnTo>
                <a:lnTo>
                  <a:pt x="3327" y="920"/>
                </a:lnTo>
                <a:lnTo>
                  <a:pt x="0" y="920"/>
                </a:lnTo>
                <a:lnTo>
                  <a:pt x="0" y="176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185e18"/>
              </a:gs>
            </a:gsLst>
            <a:lin ang="5400000"/>
          </a:gra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II.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AN OVERVIEW OF PRODUCTION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re are three functions of production managemen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3176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A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Acquiring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resourc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13176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B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Planning how to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conver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resources into produc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13176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C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Making sure products meet the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standard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set for the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1           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From Idea to Product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12960" indent="0">
              <a:spcBef>
                <a:spcPts val="1100"/>
              </a:spcBef>
              <a:buNone/>
              <a:tabLst>
                <a:tab algn="l" pos="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III.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 Schedul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1604880" indent="0">
              <a:spcBef>
                <a:spcPts val="1001"/>
              </a:spcBef>
              <a:buNone/>
              <a:tabLst>
                <a:tab algn="l" pos="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A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Businesses plan production by making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schedule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1604880" indent="0">
              <a:spcBef>
                <a:spcPts val="1001"/>
              </a:spcBef>
              <a:buNone/>
              <a:tabLst>
                <a:tab algn="l" pos="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B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here are two widely used scheduling techniques: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 Gantt chart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1604880" indent="0">
              <a:spcBef>
                <a:spcPts val="1001"/>
              </a:spcBef>
              <a:buNone/>
              <a:tabLst>
                <a:tab algn="l" pos="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 PERT diagra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082520" indent="0">
              <a:spcBef>
                <a:spcPts val="1100"/>
              </a:spcBef>
              <a:buNone/>
              <a:tabLst>
                <a:tab algn="l" pos="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IV.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GANTT CHAR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082520" indent="0">
              <a:spcBef>
                <a:spcPts val="1001"/>
              </a:spcBef>
              <a:buNone/>
              <a:tabLst>
                <a:tab algn="l" pos="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antt charts list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task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on the vertical axis and the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tim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required for each task on the horizontal axi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23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203" name="Picture 4" descr="G:\Accounting-Careers\Projects\ENTRESBM\PowerPoint Presentations\16-2.GIF"/>
          <p:cNvPicPr/>
          <p:nvPr/>
        </p:nvPicPr>
        <p:blipFill>
          <a:blip r:embed="rId1"/>
          <a:stretch/>
        </p:blipFill>
        <p:spPr>
          <a:xfrm>
            <a:off x="1471680" y="1371600"/>
            <a:ext cx="71388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V.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PERT DIAGRA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14875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A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PERT stands for Program Evaluation and Review Techniqu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1           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From Idea to Product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25244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B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Identify a project’s major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activitie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  Then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arrang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activities on the diagram in ord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125244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C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Connect with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arrow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activities that must occur in a fixed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sequenc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1           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From Idea to Product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3176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Finally, estimate and indicate the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tim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necessary to complete each activit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23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212" name="Picture 1028" descr="G:\Accounting-Careers\Projects\ENTRESBM\PowerPoint Presentations\16-3.GIF"/>
          <p:cNvPicPr/>
          <p:nvPr/>
        </p:nvPicPr>
        <p:blipFill>
          <a:blip r:embed="rId1"/>
          <a:stretch/>
        </p:blipFill>
        <p:spPr>
          <a:xfrm>
            <a:off x="1500120" y="1371600"/>
            <a:ext cx="7034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12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VI.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CONTROLLING QUA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160488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A.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Quality control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s the process of making sure that goods or services produced meet certain standard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hat you’ll learn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66ff33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to manage the production aspects of a busin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Freeform 10"/>
          <p:cNvSpPr/>
          <p:nvPr/>
        </p:nvSpPr>
        <p:spPr>
          <a:xfrm rot="16200000">
            <a:off x="-2182320" y="3858840"/>
            <a:ext cx="5127480" cy="152280"/>
          </a:xfrm>
          <a:custGeom>
            <a:avLst/>
            <a:gdLst/>
            <a:ahLst/>
            <a:rect l="l" t="t" r="r" b="b"/>
            <a:pathLst>
              <a:path w="3954" h="1098">
                <a:moveTo>
                  <a:pt x="0" y="176"/>
                </a:moveTo>
                <a:lnTo>
                  <a:pt x="3327" y="176"/>
                </a:lnTo>
                <a:lnTo>
                  <a:pt x="3327" y="0"/>
                </a:lnTo>
                <a:lnTo>
                  <a:pt x="3954" y="567"/>
                </a:lnTo>
                <a:lnTo>
                  <a:pt x="3327" y="1098"/>
                </a:lnTo>
                <a:lnTo>
                  <a:pt x="3327" y="920"/>
                </a:lnTo>
                <a:lnTo>
                  <a:pt x="0" y="920"/>
                </a:lnTo>
                <a:lnTo>
                  <a:pt x="0" y="176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185e18"/>
              </a:gs>
            </a:gsLst>
            <a:lin ang="5400000"/>
          </a:gra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  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25244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B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wo major ways to control quality include the follow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125244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Quality Circ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125244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Inspectio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08252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VII. CONTROLLING QUA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0825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Quality circles are groups of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employee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who handle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problem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regarding qualit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25244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VIII. INSPE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25244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Inspec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your products to improve quali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95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IX. MANAGING OTHER AREAS OF PRODU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795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Productivity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automation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, and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prevention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maintenance are additional areas of production that should be managed effectivel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23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X. PRODUCTIV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142884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A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Productivity is a measure of how much a business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produce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in a given ti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142884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B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Use productivity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rate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o measure and improve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performanc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23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XI. AUTOM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14875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A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Automation is the use of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machine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o do the work of peop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317600" indent="0">
              <a:spcBef>
                <a:spcPts val="1001"/>
              </a:spcBef>
              <a:buNone/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B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Automation can cut product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tim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, reduce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error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, and simplify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procedure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1317600" indent="0">
              <a:spcBef>
                <a:spcPts val="1001"/>
              </a:spcBef>
              <a:buNone/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C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Automation can be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expensiv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147680" indent="0">
              <a:spcBef>
                <a:spcPts val="1100"/>
              </a:spcBef>
              <a:buNone/>
              <a:tabLst>
                <a:tab algn="l" pos="0"/>
                <a:tab algn="l" pos="108252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XII. MAINTENAN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147680" indent="0">
              <a:spcBef>
                <a:spcPts val="1001"/>
              </a:spcBef>
              <a:buNone/>
              <a:tabLst>
                <a:tab algn="l" pos="0"/>
                <a:tab algn="l" pos="108252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re are three basic ways to manage maintenanc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2004840" indent="0">
              <a:spcBef>
                <a:spcPts val="1001"/>
              </a:spcBef>
              <a:buNone/>
              <a:tabLst>
                <a:tab algn="l" pos="0"/>
                <a:tab algn="l" pos="1082520"/>
                <a:tab algn="l" pos="1147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A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Organize your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production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proces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3176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B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Build up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inventorie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at each stage of the production proces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13176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C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Conduct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preventativ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maintenanc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370160" indent="0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ff33"/>
                </a:solidFill>
                <a:latin typeface="Times New Roman"/>
              </a:rPr>
              <a:t>XIII. DISTRIBUTION MANAGEMENT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137016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500" spc="-1" strike="noStrike">
                <a:solidFill>
                  <a:srgbClr val="66ff33"/>
                </a:solidFill>
                <a:latin typeface="Times New Roman"/>
              </a:rPr>
              <a:t>A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Distribution management includes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transportation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storag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, materials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ndling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, and specification of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delivery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term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37016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hat you’ll learn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66ff33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to use Gantt charts and PERT diagra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Freeform 4"/>
          <p:cNvSpPr/>
          <p:nvPr/>
        </p:nvSpPr>
        <p:spPr>
          <a:xfrm rot="16200000">
            <a:off x="-2182320" y="3858840"/>
            <a:ext cx="5127480" cy="152280"/>
          </a:xfrm>
          <a:custGeom>
            <a:avLst/>
            <a:gdLst/>
            <a:ahLst/>
            <a:rect l="l" t="t" r="r" b="b"/>
            <a:pathLst>
              <a:path w="3954" h="1098">
                <a:moveTo>
                  <a:pt x="0" y="176"/>
                </a:moveTo>
                <a:lnTo>
                  <a:pt x="3327" y="176"/>
                </a:lnTo>
                <a:lnTo>
                  <a:pt x="3327" y="0"/>
                </a:lnTo>
                <a:lnTo>
                  <a:pt x="3954" y="567"/>
                </a:lnTo>
                <a:lnTo>
                  <a:pt x="3327" y="1098"/>
                </a:lnTo>
                <a:lnTo>
                  <a:pt x="3327" y="920"/>
                </a:lnTo>
                <a:lnTo>
                  <a:pt x="0" y="920"/>
                </a:lnTo>
                <a:lnTo>
                  <a:pt x="0" y="176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185e18"/>
              </a:gs>
            </a:gsLst>
            <a:lin ang="5400000"/>
          </a:gra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82520" indent="0">
              <a:spcBef>
                <a:spcPts val="1001"/>
              </a:spcBef>
              <a:buNone/>
              <a:tabLst>
                <a:tab algn="l" pos="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B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It controls the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movemen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of product from the manufacturer to the customer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25244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XIV. TRANSPOR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194472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A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Common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carriers, such as Federal Express and United Parcel Service, can be used by the general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public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42884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B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Contrac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carriers have a contract with a particular shipper to handle the goods.  A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railroad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is a contract carri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825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C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Privat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carriers - private companies, such as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trucking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companies, that ship good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082520" indent="0">
              <a:spcBef>
                <a:spcPts val="1100"/>
              </a:spcBef>
              <a:buNone/>
              <a:tabLst>
                <a:tab algn="l" pos="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XV. STOR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082520" indent="0">
              <a:spcBef>
                <a:spcPts val="1001"/>
              </a:spcBef>
              <a:buNone/>
              <a:tabLst>
                <a:tab algn="l" pos="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trepreneurs with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limited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resources might have a wholesaler store and distribute their products, or store products in a public warehous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31760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XVI. MATERIALS HANDL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3176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sides transporting and storing products, you must handle the products without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damaging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he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23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XVII. DELIVERY TER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189216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A.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n any shipment there must be delivery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term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189216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B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Delivery terms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identify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who is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responsibl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for the various components of distributio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42884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C.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he most favorable deliver term is “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free on board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” or FOB.  This means the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buyer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pays all freight cos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25244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In addition, the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titl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of the goods passes to the buyer when the goods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leav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he manufactur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42884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A.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he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detail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of a products movement from the manufacturer to the customer are called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logistic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142884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B.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You can handle logistics yourself or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outsourc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i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1104840" y="10778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1709640" indent="-1709640">
              <a:spcBef>
                <a:spcPts val="901"/>
              </a:spcBef>
              <a:tabLst>
                <a:tab algn="l" pos="0"/>
                <a:tab algn="l" pos="165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Times New Roman"/>
              </a:rPr>
              <a:t>XVIII. OUTSOURCING LOGISTIC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hat you’ll learn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66ff33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elements of distribution manag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Freeform 2052"/>
          <p:cNvSpPr/>
          <p:nvPr/>
        </p:nvSpPr>
        <p:spPr>
          <a:xfrm rot="16200000">
            <a:off x="-2182320" y="3858840"/>
            <a:ext cx="5127480" cy="152280"/>
          </a:xfrm>
          <a:custGeom>
            <a:avLst/>
            <a:gdLst/>
            <a:ahLst/>
            <a:rect l="l" t="t" r="r" b="b"/>
            <a:pathLst>
              <a:path w="3954" h="1098">
                <a:moveTo>
                  <a:pt x="0" y="176"/>
                </a:moveTo>
                <a:lnTo>
                  <a:pt x="3327" y="176"/>
                </a:lnTo>
                <a:lnTo>
                  <a:pt x="3327" y="0"/>
                </a:lnTo>
                <a:lnTo>
                  <a:pt x="3954" y="567"/>
                </a:lnTo>
                <a:lnTo>
                  <a:pt x="3327" y="1098"/>
                </a:lnTo>
                <a:lnTo>
                  <a:pt x="3327" y="920"/>
                </a:lnTo>
                <a:lnTo>
                  <a:pt x="0" y="920"/>
                </a:lnTo>
                <a:lnTo>
                  <a:pt x="0" y="176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185e18"/>
              </a:gs>
            </a:gsLst>
            <a:lin ang="5400000"/>
          </a:gra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owerPoint Presen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End of Section 16.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Freeform 7"/>
          <p:cNvSpPr/>
          <p:nvPr/>
        </p:nvSpPr>
        <p:spPr>
          <a:xfrm>
            <a:off x="304920" y="990720"/>
            <a:ext cx="669960" cy="468360"/>
          </a:xfrm>
          <a:custGeom>
            <a:avLst/>
            <a:gdLst/>
            <a:ahLst/>
            <a:rect l="l" t="t" r="r" b="b"/>
            <a:pathLst>
              <a:path w="718" h="1500">
                <a:moveTo>
                  <a:pt x="276" y="146"/>
                </a:moveTo>
                <a:lnTo>
                  <a:pt x="445" y="146"/>
                </a:lnTo>
                <a:lnTo>
                  <a:pt x="445" y="0"/>
                </a:lnTo>
                <a:lnTo>
                  <a:pt x="529" y="0"/>
                </a:lnTo>
                <a:lnTo>
                  <a:pt x="529" y="146"/>
                </a:lnTo>
                <a:lnTo>
                  <a:pt x="718" y="333"/>
                </a:lnTo>
                <a:lnTo>
                  <a:pt x="718" y="542"/>
                </a:lnTo>
                <a:lnTo>
                  <a:pt x="485" y="542"/>
                </a:lnTo>
                <a:lnTo>
                  <a:pt x="485" y="374"/>
                </a:lnTo>
                <a:lnTo>
                  <a:pt x="255" y="374"/>
                </a:lnTo>
                <a:lnTo>
                  <a:pt x="255" y="646"/>
                </a:lnTo>
                <a:lnTo>
                  <a:pt x="550" y="646"/>
                </a:lnTo>
                <a:lnTo>
                  <a:pt x="718" y="813"/>
                </a:lnTo>
                <a:lnTo>
                  <a:pt x="718" y="1167"/>
                </a:lnTo>
                <a:lnTo>
                  <a:pt x="529" y="1354"/>
                </a:lnTo>
                <a:lnTo>
                  <a:pt x="529" y="1500"/>
                </a:lnTo>
                <a:lnTo>
                  <a:pt x="445" y="1500"/>
                </a:lnTo>
                <a:lnTo>
                  <a:pt x="445" y="1354"/>
                </a:lnTo>
                <a:lnTo>
                  <a:pt x="276" y="1354"/>
                </a:lnTo>
                <a:lnTo>
                  <a:pt x="276" y="1500"/>
                </a:lnTo>
                <a:lnTo>
                  <a:pt x="190" y="1500"/>
                </a:lnTo>
                <a:lnTo>
                  <a:pt x="190" y="1354"/>
                </a:lnTo>
                <a:lnTo>
                  <a:pt x="0" y="1167"/>
                </a:lnTo>
                <a:lnTo>
                  <a:pt x="0" y="999"/>
                </a:lnTo>
                <a:lnTo>
                  <a:pt x="255" y="999"/>
                </a:lnTo>
                <a:lnTo>
                  <a:pt x="255" y="1146"/>
                </a:lnTo>
                <a:lnTo>
                  <a:pt x="485" y="1146"/>
                </a:lnTo>
                <a:lnTo>
                  <a:pt x="485" y="875"/>
                </a:lnTo>
                <a:lnTo>
                  <a:pt x="190" y="875"/>
                </a:lnTo>
                <a:lnTo>
                  <a:pt x="0" y="689"/>
                </a:lnTo>
                <a:lnTo>
                  <a:pt x="0" y="333"/>
                </a:lnTo>
                <a:lnTo>
                  <a:pt x="190" y="146"/>
                </a:lnTo>
                <a:lnTo>
                  <a:pt x="190" y="0"/>
                </a:lnTo>
                <a:lnTo>
                  <a:pt x="276" y="0"/>
                </a:lnTo>
                <a:lnTo>
                  <a:pt x="276" y="14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Freeform 8"/>
          <p:cNvSpPr/>
          <p:nvPr/>
        </p:nvSpPr>
        <p:spPr>
          <a:xfrm rot="16200000">
            <a:off x="-2182320" y="3858840"/>
            <a:ext cx="5127480" cy="152280"/>
          </a:xfrm>
          <a:custGeom>
            <a:avLst/>
            <a:gdLst/>
            <a:ahLst/>
            <a:rect l="l" t="t" r="r" b="b"/>
            <a:pathLst>
              <a:path w="3954" h="1098">
                <a:moveTo>
                  <a:pt x="0" y="176"/>
                </a:moveTo>
                <a:lnTo>
                  <a:pt x="3327" y="176"/>
                </a:lnTo>
                <a:lnTo>
                  <a:pt x="3327" y="0"/>
                </a:lnTo>
                <a:lnTo>
                  <a:pt x="3954" y="567"/>
                </a:lnTo>
                <a:lnTo>
                  <a:pt x="3327" y="1098"/>
                </a:lnTo>
                <a:lnTo>
                  <a:pt x="3327" y="920"/>
                </a:lnTo>
                <a:lnTo>
                  <a:pt x="0" y="920"/>
                </a:lnTo>
                <a:lnTo>
                  <a:pt x="0" y="176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185e18"/>
              </a:gs>
            </a:gsLst>
            <a:lin ang="5400000"/>
          </a:gra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95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hy it’s importa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95560" indent="-285840">
              <a:spcBef>
                <a:spcPts val="1001"/>
              </a:spcBef>
              <a:buClr>
                <a:srgbClr val="66ff33"/>
              </a:buClr>
              <a:buSzPct val="7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duction and distribution are the ways that a business makes an idea come true and gets it to the custome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1" name="Freeform 6"/>
          <p:cNvSpPr/>
          <p:nvPr/>
        </p:nvSpPr>
        <p:spPr>
          <a:xfrm>
            <a:off x="304920" y="990720"/>
            <a:ext cx="669960" cy="468360"/>
          </a:xfrm>
          <a:custGeom>
            <a:avLst/>
            <a:gdLst/>
            <a:ahLst/>
            <a:rect l="l" t="t" r="r" b="b"/>
            <a:pathLst>
              <a:path w="718" h="1500">
                <a:moveTo>
                  <a:pt x="276" y="146"/>
                </a:moveTo>
                <a:lnTo>
                  <a:pt x="445" y="146"/>
                </a:lnTo>
                <a:lnTo>
                  <a:pt x="445" y="0"/>
                </a:lnTo>
                <a:lnTo>
                  <a:pt x="529" y="0"/>
                </a:lnTo>
                <a:lnTo>
                  <a:pt x="529" y="146"/>
                </a:lnTo>
                <a:lnTo>
                  <a:pt x="718" y="333"/>
                </a:lnTo>
                <a:lnTo>
                  <a:pt x="718" y="542"/>
                </a:lnTo>
                <a:lnTo>
                  <a:pt x="485" y="542"/>
                </a:lnTo>
                <a:lnTo>
                  <a:pt x="485" y="374"/>
                </a:lnTo>
                <a:lnTo>
                  <a:pt x="255" y="374"/>
                </a:lnTo>
                <a:lnTo>
                  <a:pt x="255" y="646"/>
                </a:lnTo>
                <a:lnTo>
                  <a:pt x="550" y="646"/>
                </a:lnTo>
                <a:lnTo>
                  <a:pt x="718" y="813"/>
                </a:lnTo>
                <a:lnTo>
                  <a:pt x="718" y="1167"/>
                </a:lnTo>
                <a:lnTo>
                  <a:pt x="529" y="1354"/>
                </a:lnTo>
                <a:lnTo>
                  <a:pt x="529" y="1500"/>
                </a:lnTo>
                <a:lnTo>
                  <a:pt x="445" y="1500"/>
                </a:lnTo>
                <a:lnTo>
                  <a:pt x="445" y="1354"/>
                </a:lnTo>
                <a:lnTo>
                  <a:pt x="276" y="1354"/>
                </a:lnTo>
                <a:lnTo>
                  <a:pt x="276" y="1500"/>
                </a:lnTo>
                <a:lnTo>
                  <a:pt x="190" y="1500"/>
                </a:lnTo>
                <a:lnTo>
                  <a:pt x="190" y="1354"/>
                </a:lnTo>
                <a:lnTo>
                  <a:pt x="0" y="1167"/>
                </a:lnTo>
                <a:lnTo>
                  <a:pt x="0" y="999"/>
                </a:lnTo>
                <a:lnTo>
                  <a:pt x="255" y="999"/>
                </a:lnTo>
                <a:lnTo>
                  <a:pt x="255" y="1146"/>
                </a:lnTo>
                <a:lnTo>
                  <a:pt x="485" y="1146"/>
                </a:lnTo>
                <a:lnTo>
                  <a:pt x="485" y="875"/>
                </a:lnTo>
                <a:lnTo>
                  <a:pt x="190" y="875"/>
                </a:lnTo>
                <a:lnTo>
                  <a:pt x="0" y="689"/>
                </a:lnTo>
                <a:lnTo>
                  <a:pt x="0" y="333"/>
                </a:lnTo>
                <a:lnTo>
                  <a:pt x="190" y="146"/>
                </a:lnTo>
                <a:lnTo>
                  <a:pt x="190" y="0"/>
                </a:lnTo>
                <a:lnTo>
                  <a:pt x="276" y="0"/>
                </a:lnTo>
                <a:lnTo>
                  <a:pt x="276" y="14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344520"/>
                <a:tab algn="l" pos="4179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Key Term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344520"/>
                <a:tab algn="l" pos="4179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antt char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344520"/>
                <a:tab algn="l" pos="4179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ERT diagra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344520"/>
                <a:tab algn="l" pos="4179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quality 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344520"/>
                <a:tab algn="l" pos="4179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quality circ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344520"/>
                <a:tab algn="l" pos="4179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228600" y="228600"/>
            <a:ext cx="8915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Group 23"/>
          <p:cNvGrpSpPr/>
          <p:nvPr/>
        </p:nvGrpSpPr>
        <p:grpSpPr>
          <a:xfrm>
            <a:off x="533520" y="5638680"/>
            <a:ext cx="280800" cy="608040"/>
            <a:chOff x="533520" y="5638680"/>
            <a:chExt cx="280800" cy="608040"/>
          </a:xfrm>
        </p:grpSpPr>
        <p:sp>
          <p:nvSpPr>
            <p:cNvPr id="135" name="Freeform 7"/>
            <p:cNvSpPr/>
            <p:nvPr/>
          </p:nvSpPr>
          <p:spPr>
            <a:xfrm>
              <a:off x="533520" y="5638680"/>
              <a:ext cx="273960" cy="604800"/>
            </a:xfrm>
            <a:custGeom>
              <a:avLst/>
              <a:gdLst/>
              <a:ahLst/>
              <a:rect l="l" t="t" r="r" b="b"/>
              <a:pathLst>
                <a:path w="1474" h="2866">
                  <a:moveTo>
                    <a:pt x="529" y="0"/>
                  </a:moveTo>
                  <a:lnTo>
                    <a:pt x="974" y="0"/>
                  </a:lnTo>
                  <a:lnTo>
                    <a:pt x="890" y="110"/>
                  </a:lnTo>
                  <a:lnTo>
                    <a:pt x="630" y="110"/>
                  </a:lnTo>
                  <a:lnTo>
                    <a:pt x="532" y="285"/>
                  </a:lnTo>
                  <a:lnTo>
                    <a:pt x="979" y="285"/>
                  </a:lnTo>
                  <a:lnTo>
                    <a:pt x="888" y="112"/>
                  </a:lnTo>
                  <a:lnTo>
                    <a:pt x="974" y="2"/>
                  </a:lnTo>
                  <a:lnTo>
                    <a:pt x="1130" y="273"/>
                  </a:lnTo>
                  <a:lnTo>
                    <a:pt x="1214" y="275"/>
                  </a:lnTo>
                  <a:lnTo>
                    <a:pt x="1244" y="368"/>
                  </a:lnTo>
                  <a:lnTo>
                    <a:pt x="1376" y="368"/>
                  </a:lnTo>
                  <a:lnTo>
                    <a:pt x="1378" y="433"/>
                  </a:lnTo>
                  <a:lnTo>
                    <a:pt x="1427" y="435"/>
                  </a:lnTo>
                  <a:lnTo>
                    <a:pt x="1474" y="435"/>
                  </a:lnTo>
                  <a:lnTo>
                    <a:pt x="1474" y="835"/>
                  </a:lnTo>
                  <a:lnTo>
                    <a:pt x="1376" y="837"/>
                  </a:lnTo>
                  <a:lnTo>
                    <a:pt x="1374" y="921"/>
                  </a:lnTo>
                  <a:lnTo>
                    <a:pt x="1249" y="921"/>
                  </a:lnTo>
                  <a:lnTo>
                    <a:pt x="1213" y="1021"/>
                  </a:lnTo>
                  <a:lnTo>
                    <a:pt x="1144" y="1023"/>
                  </a:lnTo>
                  <a:lnTo>
                    <a:pt x="1139" y="1226"/>
                  </a:lnTo>
                  <a:lnTo>
                    <a:pt x="1092" y="1226"/>
                  </a:lnTo>
                  <a:lnTo>
                    <a:pt x="1077" y="1257"/>
                  </a:lnTo>
                  <a:lnTo>
                    <a:pt x="1077" y="1460"/>
                  </a:lnTo>
                  <a:lnTo>
                    <a:pt x="994" y="1461"/>
                  </a:lnTo>
                  <a:lnTo>
                    <a:pt x="1000" y="2682"/>
                  </a:lnTo>
                  <a:lnTo>
                    <a:pt x="804" y="2866"/>
                  </a:lnTo>
                  <a:lnTo>
                    <a:pt x="553" y="2655"/>
                  </a:lnTo>
                  <a:lnTo>
                    <a:pt x="642" y="2594"/>
                  </a:lnTo>
                  <a:lnTo>
                    <a:pt x="642" y="2524"/>
                  </a:lnTo>
                  <a:lnTo>
                    <a:pt x="553" y="2460"/>
                  </a:lnTo>
                  <a:lnTo>
                    <a:pt x="642" y="2405"/>
                  </a:lnTo>
                  <a:lnTo>
                    <a:pt x="629" y="2383"/>
                  </a:lnTo>
                  <a:lnTo>
                    <a:pt x="551" y="2333"/>
                  </a:lnTo>
                  <a:lnTo>
                    <a:pt x="538" y="2175"/>
                  </a:lnTo>
                  <a:lnTo>
                    <a:pt x="527" y="2159"/>
                  </a:lnTo>
                  <a:lnTo>
                    <a:pt x="644" y="2068"/>
                  </a:lnTo>
                  <a:lnTo>
                    <a:pt x="644" y="1989"/>
                  </a:lnTo>
                  <a:lnTo>
                    <a:pt x="551" y="1896"/>
                  </a:lnTo>
                  <a:lnTo>
                    <a:pt x="642" y="1814"/>
                  </a:lnTo>
                  <a:lnTo>
                    <a:pt x="642" y="1731"/>
                  </a:lnTo>
                  <a:lnTo>
                    <a:pt x="553" y="1625"/>
                  </a:lnTo>
                  <a:lnTo>
                    <a:pt x="536" y="1451"/>
                  </a:lnTo>
                  <a:lnTo>
                    <a:pt x="428" y="1451"/>
                  </a:lnTo>
                  <a:lnTo>
                    <a:pt x="428" y="1217"/>
                  </a:lnTo>
                  <a:lnTo>
                    <a:pt x="362" y="1217"/>
                  </a:lnTo>
                  <a:lnTo>
                    <a:pt x="362" y="1013"/>
                  </a:lnTo>
                  <a:lnTo>
                    <a:pt x="290" y="1013"/>
                  </a:lnTo>
                  <a:lnTo>
                    <a:pt x="258" y="915"/>
                  </a:lnTo>
                  <a:lnTo>
                    <a:pt x="112" y="915"/>
                  </a:lnTo>
                  <a:lnTo>
                    <a:pt x="112" y="829"/>
                  </a:lnTo>
                  <a:lnTo>
                    <a:pt x="0" y="829"/>
                  </a:lnTo>
                  <a:lnTo>
                    <a:pt x="0" y="425"/>
                  </a:lnTo>
                  <a:lnTo>
                    <a:pt x="110" y="425"/>
                  </a:lnTo>
                  <a:lnTo>
                    <a:pt x="110" y="366"/>
                  </a:lnTo>
                  <a:lnTo>
                    <a:pt x="233" y="366"/>
                  </a:lnTo>
                  <a:lnTo>
                    <a:pt x="263" y="340"/>
                  </a:lnTo>
                  <a:lnTo>
                    <a:pt x="292" y="275"/>
                  </a:lnTo>
                  <a:lnTo>
                    <a:pt x="362" y="275"/>
                  </a:lnTo>
                  <a:lnTo>
                    <a:pt x="529" y="0"/>
                  </a:lnTo>
                  <a:close/>
                </a:path>
              </a:pathLst>
            </a:custGeom>
            <a:solidFill>
              <a:srgbClr val="ff9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Freeform 8"/>
            <p:cNvSpPr/>
            <p:nvPr/>
          </p:nvSpPr>
          <p:spPr>
            <a:xfrm>
              <a:off x="540000" y="5641920"/>
              <a:ext cx="274320" cy="604800"/>
            </a:xfrm>
            <a:custGeom>
              <a:avLst/>
              <a:gdLst/>
              <a:ahLst/>
              <a:rect l="l" t="t" r="r" b="b"/>
              <a:pathLst>
                <a:path w="1476" h="2868">
                  <a:moveTo>
                    <a:pt x="529" y="0"/>
                  </a:moveTo>
                  <a:lnTo>
                    <a:pt x="974" y="0"/>
                  </a:lnTo>
                  <a:lnTo>
                    <a:pt x="890" y="110"/>
                  </a:lnTo>
                  <a:lnTo>
                    <a:pt x="630" y="110"/>
                  </a:lnTo>
                  <a:lnTo>
                    <a:pt x="532" y="286"/>
                  </a:lnTo>
                  <a:lnTo>
                    <a:pt x="979" y="286"/>
                  </a:lnTo>
                  <a:lnTo>
                    <a:pt x="888" y="112"/>
                  </a:lnTo>
                  <a:lnTo>
                    <a:pt x="974" y="2"/>
                  </a:lnTo>
                  <a:lnTo>
                    <a:pt x="1132" y="274"/>
                  </a:lnTo>
                  <a:lnTo>
                    <a:pt x="1214" y="275"/>
                  </a:lnTo>
                  <a:lnTo>
                    <a:pt x="1244" y="368"/>
                  </a:lnTo>
                  <a:lnTo>
                    <a:pt x="1376" y="368"/>
                  </a:lnTo>
                  <a:lnTo>
                    <a:pt x="1378" y="434"/>
                  </a:lnTo>
                  <a:lnTo>
                    <a:pt x="1427" y="435"/>
                  </a:lnTo>
                  <a:lnTo>
                    <a:pt x="1476" y="435"/>
                  </a:lnTo>
                  <a:lnTo>
                    <a:pt x="1476" y="836"/>
                  </a:lnTo>
                  <a:lnTo>
                    <a:pt x="1376" y="838"/>
                  </a:lnTo>
                  <a:lnTo>
                    <a:pt x="1374" y="922"/>
                  </a:lnTo>
                  <a:lnTo>
                    <a:pt x="1249" y="922"/>
                  </a:lnTo>
                  <a:lnTo>
                    <a:pt x="1213" y="1022"/>
                  </a:lnTo>
                  <a:lnTo>
                    <a:pt x="1144" y="1023"/>
                  </a:lnTo>
                  <a:lnTo>
                    <a:pt x="1139" y="1226"/>
                  </a:lnTo>
                  <a:lnTo>
                    <a:pt x="1092" y="1226"/>
                  </a:lnTo>
                  <a:lnTo>
                    <a:pt x="1080" y="1243"/>
                  </a:lnTo>
                  <a:lnTo>
                    <a:pt x="1080" y="1462"/>
                  </a:lnTo>
                  <a:lnTo>
                    <a:pt x="995" y="1462"/>
                  </a:lnTo>
                  <a:lnTo>
                    <a:pt x="1000" y="2683"/>
                  </a:lnTo>
                  <a:lnTo>
                    <a:pt x="804" y="2868"/>
                  </a:lnTo>
                  <a:lnTo>
                    <a:pt x="553" y="2655"/>
                  </a:lnTo>
                  <a:lnTo>
                    <a:pt x="642" y="2595"/>
                  </a:lnTo>
                  <a:lnTo>
                    <a:pt x="642" y="2524"/>
                  </a:lnTo>
                  <a:lnTo>
                    <a:pt x="553" y="2461"/>
                  </a:lnTo>
                  <a:lnTo>
                    <a:pt x="642" y="2406"/>
                  </a:lnTo>
                  <a:lnTo>
                    <a:pt x="629" y="2383"/>
                  </a:lnTo>
                  <a:lnTo>
                    <a:pt x="551" y="2334"/>
                  </a:lnTo>
                  <a:lnTo>
                    <a:pt x="538" y="2175"/>
                  </a:lnTo>
                  <a:lnTo>
                    <a:pt x="527" y="2162"/>
                  </a:lnTo>
                  <a:lnTo>
                    <a:pt x="644" y="2069"/>
                  </a:lnTo>
                  <a:lnTo>
                    <a:pt x="644" y="1990"/>
                  </a:lnTo>
                  <a:lnTo>
                    <a:pt x="551" y="1897"/>
                  </a:lnTo>
                  <a:lnTo>
                    <a:pt x="642" y="1814"/>
                  </a:lnTo>
                  <a:lnTo>
                    <a:pt x="642" y="1732"/>
                  </a:lnTo>
                  <a:lnTo>
                    <a:pt x="553" y="1625"/>
                  </a:lnTo>
                  <a:lnTo>
                    <a:pt x="536" y="1451"/>
                  </a:lnTo>
                  <a:lnTo>
                    <a:pt x="428" y="1451"/>
                  </a:lnTo>
                  <a:lnTo>
                    <a:pt x="428" y="1218"/>
                  </a:lnTo>
                  <a:lnTo>
                    <a:pt x="364" y="1218"/>
                  </a:lnTo>
                  <a:lnTo>
                    <a:pt x="364" y="1013"/>
                  </a:lnTo>
                  <a:lnTo>
                    <a:pt x="290" y="1013"/>
                  </a:lnTo>
                  <a:lnTo>
                    <a:pt x="258" y="915"/>
                  </a:lnTo>
                  <a:lnTo>
                    <a:pt x="112" y="915"/>
                  </a:lnTo>
                  <a:lnTo>
                    <a:pt x="112" y="829"/>
                  </a:lnTo>
                  <a:lnTo>
                    <a:pt x="0" y="829"/>
                  </a:lnTo>
                  <a:lnTo>
                    <a:pt x="0" y="425"/>
                  </a:lnTo>
                  <a:lnTo>
                    <a:pt x="110" y="425"/>
                  </a:lnTo>
                  <a:lnTo>
                    <a:pt x="110" y="367"/>
                  </a:lnTo>
                  <a:lnTo>
                    <a:pt x="234" y="367"/>
                  </a:lnTo>
                  <a:lnTo>
                    <a:pt x="263" y="341"/>
                  </a:lnTo>
                  <a:lnTo>
                    <a:pt x="292" y="275"/>
                  </a:lnTo>
                  <a:lnTo>
                    <a:pt x="364" y="275"/>
                  </a:lnTo>
                  <a:lnTo>
                    <a:pt x="529" y="0"/>
                  </a:lnTo>
                  <a:close/>
                </a:path>
              </a:pathLst>
            </a:custGeom>
            <a:solidFill>
              <a:srgbClr val="bf7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7" name="Group 11"/>
            <p:cNvGrpSpPr/>
            <p:nvPr/>
          </p:nvGrpSpPr>
          <p:grpSpPr>
            <a:xfrm>
              <a:off x="578520" y="5738760"/>
              <a:ext cx="208800" cy="69480"/>
              <a:chOff x="578520" y="5738760"/>
              <a:chExt cx="208800" cy="69480"/>
            </a:xfrm>
          </p:grpSpPr>
          <p:sp>
            <p:nvSpPr>
              <p:cNvPr id="138" name="Freeform 9"/>
              <p:cNvSpPr/>
              <p:nvPr/>
            </p:nvSpPr>
            <p:spPr>
              <a:xfrm>
                <a:off x="578520" y="5739120"/>
                <a:ext cx="193680" cy="69120"/>
              </a:xfrm>
              <a:custGeom>
                <a:avLst/>
                <a:gdLst/>
                <a:ahLst/>
                <a:rect l="l" t="t" r="r" b="b"/>
                <a:pathLst>
                  <a:path w="1043" h="329">
                    <a:moveTo>
                      <a:pt x="0" y="170"/>
                    </a:moveTo>
                    <a:lnTo>
                      <a:pt x="91" y="0"/>
                    </a:lnTo>
                    <a:lnTo>
                      <a:pt x="1043" y="0"/>
                    </a:lnTo>
                    <a:lnTo>
                      <a:pt x="1034" y="12"/>
                    </a:lnTo>
                    <a:lnTo>
                      <a:pt x="101" y="12"/>
                    </a:lnTo>
                    <a:lnTo>
                      <a:pt x="17" y="170"/>
                    </a:lnTo>
                    <a:lnTo>
                      <a:pt x="100" y="318"/>
                    </a:lnTo>
                    <a:lnTo>
                      <a:pt x="84" y="329"/>
                    </a:lnTo>
                    <a:lnTo>
                      <a:pt x="0" y="170"/>
                    </a:lnTo>
                    <a:close/>
                  </a:path>
                </a:pathLst>
              </a:custGeom>
              <a:solidFill>
                <a:srgbClr val="bf7f3f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Freeform 10"/>
              <p:cNvSpPr/>
              <p:nvPr/>
            </p:nvSpPr>
            <p:spPr>
              <a:xfrm>
                <a:off x="593640" y="5738760"/>
                <a:ext cx="193680" cy="69120"/>
              </a:xfrm>
              <a:custGeom>
                <a:avLst/>
                <a:gdLst/>
                <a:ahLst/>
                <a:rect l="l" t="t" r="r" b="b"/>
                <a:pathLst>
                  <a:path w="1042" h="329">
                    <a:moveTo>
                      <a:pt x="1042" y="157"/>
                    </a:moveTo>
                    <a:lnTo>
                      <a:pt x="951" y="329"/>
                    </a:lnTo>
                    <a:lnTo>
                      <a:pt x="0" y="329"/>
                    </a:lnTo>
                    <a:lnTo>
                      <a:pt x="8" y="317"/>
                    </a:lnTo>
                    <a:lnTo>
                      <a:pt x="941" y="317"/>
                    </a:lnTo>
                    <a:lnTo>
                      <a:pt x="1025" y="157"/>
                    </a:lnTo>
                    <a:lnTo>
                      <a:pt x="943" y="11"/>
                    </a:lnTo>
                    <a:lnTo>
                      <a:pt x="958" y="0"/>
                    </a:lnTo>
                    <a:lnTo>
                      <a:pt x="1042" y="157"/>
                    </a:lnTo>
                    <a:close/>
                  </a:path>
                </a:pathLst>
              </a:custGeom>
              <a:solidFill>
                <a:srgbClr val="ff9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0" name="Rectangle 12"/>
            <p:cNvSpPr/>
            <p:nvPr/>
          </p:nvSpPr>
          <p:spPr>
            <a:xfrm>
              <a:off x="561960" y="5728680"/>
              <a:ext cx="232560" cy="2880"/>
            </a:xfrm>
            <a:prstGeom prst="rect">
              <a:avLst/>
            </a:prstGeom>
            <a:solidFill>
              <a:srgbClr val="ff9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Rectangle 13"/>
            <p:cNvSpPr/>
            <p:nvPr/>
          </p:nvSpPr>
          <p:spPr>
            <a:xfrm>
              <a:off x="585000" y="5715000"/>
              <a:ext cx="181080" cy="3600"/>
            </a:xfrm>
            <a:prstGeom prst="rect">
              <a:avLst/>
            </a:prstGeom>
            <a:solidFill>
              <a:srgbClr val="ff9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2" name="Group 22"/>
            <p:cNvGrpSpPr/>
            <p:nvPr/>
          </p:nvGrpSpPr>
          <p:grpSpPr>
            <a:xfrm>
              <a:off x="561600" y="5817240"/>
              <a:ext cx="234000" cy="428400"/>
              <a:chOff x="561600" y="5817240"/>
              <a:chExt cx="234000" cy="428400"/>
            </a:xfrm>
          </p:grpSpPr>
          <p:sp>
            <p:nvSpPr>
              <p:cNvPr id="143" name="Freeform 14"/>
              <p:cNvSpPr/>
              <p:nvPr/>
            </p:nvSpPr>
            <p:spPr>
              <a:xfrm>
                <a:off x="668160" y="5901120"/>
                <a:ext cx="5760" cy="330120"/>
              </a:xfrm>
              <a:custGeom>
                <a:avLst/>
                <a:gdLst/>
                <a:ahLst/>
                <a:rect l="l" t="t" r="r" b="b"/>
                <a:pathLst>
                  <a:path w="32" h="1566">
                    <a:moveTo>
                      <a:pt x="32" y="0"/>
                    </a:moveTo>
                    <a:lnTo>
                      <a:pt x="31" y="1566"/>
                    </a:lnTo>
                    <a:lnTo>
                      <a:pt x="3" y="1542"/>
                    </a:lnTo>
                    <a:lnTo>
                      <a:pt x="0" y="4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9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Freeform 15"/>
              <p:cNvSpPr/>
              <p:nvPr/>
            </p:nvSpPr>
            <p:spPr>
              <a:xfrm>
                <a:off x="701640" y="5909400"/>
                <a:ext cx="5400" cy="322560"/>
              </a:xfrm>
              <a:custGeom>
                <a:avLst/>
                <a:gdLst/>
                <a:ahLst/>
                <a:rect l="l" t="t" r="r" b="b"/>
                <a:pathLst>
                  <a:path w="29" h="1529">
                    <a:moveTo>
                      <a:pt x="24" y="0"/>
                    </a:moveTo>
                    <a:lnTo>
                      <a:pt x="29" y="1503"/>
                    </a:lnTo>
                    <a:lnTo>
                      <a:pt x="4" y="1529"/>
                    </a:lnTo>
                    <a:lnTo>
                      <a:pt x="0" y="1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9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5" name="Group 21"/>
              <p:cNvGrpSpPr/>
              <p:nvPr/>
            </p:nvGrpSpPr>
            <p:grpSpPr>
              <a:xfrm>
                <a:off x="561600" y="5817240"/>
                <a:ext cx="234000" cy="428400"/>
                <a:chOff x="561600" y="5817240"/>
                <a:chExt cx="234000" cy="428400"/>
              </a:xfrm>
            </p:grpSpPr>
            <p:sp>
              <p:nvSpPr>
                <p:cNvPr id="146" name="Rectangle 16"/>
                <p:cNvSpPr/>
                <p:nvPr/>
              </p:nvSpPr>
              <p:spPr>
                <a:xfrm>
                  <a:off x="561600" y="5817240"/>
                  <a:ext cx="234000" cy="7920"/>
                </a:xfrm>
                <a:prstGeom prst="rect">
                  <a:avLst/>
                </a:prstGeom>
                <a:solidFill>
                  <a:srgbClr val="bf7f3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Rectangle 17"/>
                <p:cNvSpPr/>
                <p:nvPr/>
              </p:nvSpPr>
              <p:spPr>
                <a:xfrm>
                  <a:off x="609480" y="5857200"/>
                  <a:ext cx="142920" cy="6840"/>
                </a:xfrm>
                <a:prstGeom prst="rect">
                  <a:avLst/>
                </a:prstGeom>
                <a:solidFill>
                  <a:srgbClr val="bf7f3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18"/>
                <p:cNvSpPr/>
                <p:nvPr/>
              </p:nvSpPr>
              <p:spPr>
                <a:xfrm>
                  <a:off x="688320" y="5910480"/>
                  <a:ext cx="17640" cy="335160"/>
                </a:xfrm>
                <a:custGeom>
                  <a:avLst/>
                  <a:gdLst/>
                  <a:ahLst/>
                  <a:rect l="l" t="t" r="r" b="b"/>
                  <a:pathLst>
                    <a:path w="96" h="1591">
                      <a:moveTo>
                        <a:pt x="96" y="0"/>
                      </a:moveTo>
                      <a:lnTo>
                        <a:pt x="74" y="104"/>
                      </a:lnTo>
                      <a:lnTo>
                        <a:pt x="36" y="193"/>
                      </a:lnTo>
                      <a:lnTo>
                        <a:pt x="36" y="1562"/>
                      </a:lnTo>
                      <a:lnTo>
                        <a:pt x="7" y="1591"/>
                      </a:lnTo>
                      <a:lnTo>
                        <a:pt x="0" y="167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19"/>
                <p:cNvSpPr/>
                <p:nvPr/>
              </p:nvSpPr>
              <p:spPr>
                <a:xfrm>
                  <a:off x="619560" y="5898240"/>
                  <a:ext cx="124920" cy="50040"/>
                </a:xfrm>
                <a:custGeom>
                  <a:avLst/>
                  <a:gdLst/>
                  <a:ahLst/>
                  <a:rect l="l" t="t" r="r" b="b"/>
                  <a:pathLst>
                    <a:path w="671" h="239">
                      <a:moveTo>
                        <a:pt x="113" y="239"/>
                      </a:moveTo>
                      <a:lnTo>
                        <a:pt x="68" y="186"/>
                      </a:lnTo>
                      <a:lnTo>
                        <a:pt x="68" y="27"/>
                      </a:lnTo>
                      <a:lnTo>
                        <a:pt x="0" y="27"/>
                      </a:lnTo>
                      <a:lnTo>
                        <a:pt x="0" y="0"/>
                      </a:lnTo>
                      <a:lnTo>
                        <a:pt x="671" y="0"/>
                      </a:lnTo>
                      <a:lnTo>
                        <a:pt x="654" y="27"/>
                      </a:lnTo>
                      <a:lnTo>
                        <a:pt x="292" y="27"/>
                      </a:lnTo>
                      <a:lnTo>
                        <a:pt x="261" y="72"/>
                      </a:lnTo>
                      <a:lnTo>
                        <a:pt x="127" y="72"/>
                      </a:lnTo>
                      <a:lnTo>
                        <a:pt x="113" y="239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Freeform 20"/>
                <p:cNvSpPr/>
                <p:nvPr/>
              </p:nvSpPr>
              <p:spPr>
                <a:xfrm>
                  <a:off x="588240" y="5834160"/>
                  <a:ext cx="184680" cy="6480"/>
                </a:xfrm>
                <a:custGeom>
                  <a:avLst/>
                  <a:gdLst/>
                  <a:ahLst/>
                  <a:rect l="l" t="t" r="r" b="b"/>
                  <a:pathLst>
                    <a:path w="993" h="32">
                      <a:moveTo>
                        <a:pt x="0" y="1"/>
                      </a:moveTo>
                      <a:lnTo>
                        <a:pt x="993" y="0"/>
                      </a:lnTo>
                      <a:lnTo>
                        <a:pt x="983" y="31"/>
                      </a:lnTo>
                      <a:lnTo>
                        <a:pt x="9" y="3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344520"/>
                <a:tab algn="l" pos="4179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Key Terms (cont.)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344520"/>
                <a:tab algn="l" pos="4179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oductivi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344520"/>
                <a:tab algn="l" pos="4179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utom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344520"/>
                <a:tab algn="l" pos="4179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mmon carrie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344520"/>
                <a:tab algn="l" pos="4179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ntract carrie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344520"/>
                <a:tab algn="l" pos="4179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228600" y="228600"/>
            <a:ext cx="8915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533520" y="5638680"/>
            <a:ext cx="280800" cy="608040"/>
            <a:chOff x="533520" y="5638680"/>
            <a:chExt cx="280800" cy="608040"/>
          </a:xfrm>
        </p:grpSpPr>
        <p:sp>
          <p:nvSpPr>
            <p:cNvPr id="155" name="Freeform 5"/>
            <p:cNvSpPr/>
            <p:nvPr/>
          </p:nvSpPr>
          <p:spPr>
            <a:xfrm>
              <a:off x="533520" y="5638680"/>
              <a:ext cx="273960" cy="604800"/>
            </a:xfrm>
            <a:custGeom>
              <a:avLst/>
              <a:gdLst/>
              <a:ahLst/>
              <a:rect l="l" t="t" r="r" b="b"/>
              <a:pathLst>
                <a:path w="1474" h="2866">
                  <a:moveTo>
                    <a:pt x="529" y="0"/>
                  </a:moveTo>
                  <a:lnTo>
                    <a:pt x="974" y="0"/>
                  </a:lnTo>
                  <a:lnTo>
                    <a:pt x="890" y="110"/>
                  </a:lnTo>
                  <a:lnTo>
                    <a:pt x="630" y="110"/>
                  </a:lnTo>
                  <a:lnTo>
                    <a:pt x="532" y="285"/>
                  </a:lnTo>
                  <a:lnTo>
                    <a:pt x="979" y="285"/>
                  </a:lnTo>
                  <a:lnTo>
                    <a:pt x="888" y="112"/>
                  </a:lnTo>
                  <a:lnTo>
                    <a:pt x="974" y="2"/>
                  </a:lnTo>
                  <a:lnTo>
                    <a:pt x="1130" y="273"/>
                  </a:lnTo>
                  <a:lnTo>
                    <a:pt x="1214" y="275"/>
                  </a:lnTo>
                  <a:lnTo>
                    <a:pt x="1244" y="368"/>
                  </a:lnTo>
                  <a:lnTo>
                    <a:pt x="1376" y="368"/>
                  </a:lnTo>
                  <a:lnTo>
                    <a:pt x="1378" y="433"/>
                  </a:lnTo>
                  <a:lnTo>
                    <a:pt x="1427" y="435"/>
                  </a:lnTo>
                  <a:lnTo>
                    <a:pt x="1474" y="435"/>
                  </a:lnTo>
                  <a:lnTo>
                    <a:pt x="1474" y="835"/>
                  </a:lnTo>
                  <a:lnTo>
                    <a:pt x="1376" y="837"/>
                  </a:lnTo>
                  <a:lnTo>
                    <a:pt x="1374" y="921"/>
                  </a:lnTo>
                  <a:lnTo>
                    <a:pt x="1249" y="921"/>
                  </a:lnTo>
                  <a:lnTo>
                    <a:pt x="1213" y="1021"/>
                  </a:lnTo>
                  <a:lnTo>
                    <a:pt x="1144" y="1023"/>
                  </a:lnTo>
                  <a:lnTo>
                    <a:pt x="1139" y="1226"/>
                  </a:lnTo>
                  <a:lnTo>
                    <a:pt x="1092" y="1226"/>
                  </a:lnTo>
                  <a:lnTo>
                    <a:pt x="1077" y="1257"/>
                  </a:lnTo>
                  <a:lnTo>
                    <a:pt x="1077" y="1460"/>
                  </a:lnTo>
                  <a:lnTo>
                    <a:pt x="994" y="1461"/>
                  </a:lnTo>
                  <a:lnTo>
                    <a:pt x="1000" y="2682"/>
                  </a:lnTo>
                  <a:lnTo>
                    <a:pt x="804" y="2866"/>
                  </a:lnTo>
                  <a:lnTo>
                    <a:pt x="553" y="2655"/>
                  </a:lnTo>
                  <a:lnTo>
                    <a:pt x="642" y="2594"/>
                  </a:lnTo>
                  <a:lnTo>
                    <a:pt x="642" y="2524"/>
                  </a:lnTo>
                  <a:lnTo>
                    <a:pt x="553" y="2460"/>
                  </a:lnTo>
                  <a:lnTo>
                    <a:pt x="642" y="2405"/>
                  </a:lnTo>
                  <a:lnTo>
                    <a:pt x="629" y="2383"/>
                  </a:lnTo>
                  <a:lnTo>
                    <a:pt x="551" y="2333"/>
                  </a:lnTo>
                  <a:lnTo>
                    <a:pt x="538" y="2175"/>
                  </a:lnTo>
                  <a:lnTo>
                    <a:pt x="527" y="2159"/>
                  </a:lnTo>
                  <a:lnTo>
                    <a:pt x="644" y="2068"/>
                  </a:lnTo>
                  <a:lnTo>
                    <a:pt x="644" y="1989"/>
                  </a:lnTo>
                  <a:lnTo>
                    <a:pt x="551" y="1896"/>
                  </a:lnTo>
                  <a:lnTo>
                    <a:pt x="642" y="1814"/>
                  </a:lnTo>
                  <a:lnTo>
                    <a:pt x="642" y="1731"/>
                  </a:lnTo>
                  <a:lnTo>
                    <a:pt x="553" y="1625"/>
                  </a:lnTo>
                  <a:lnTo>
                    <a:pt x="536" y="1451"/>
                  </a:lnTo>
                  <a:lnTo>
                    <a:pt x="428" y="1451"/>
                  </a:lnTo>
                  <a:lnTo>
                    <a:pt x="428" y="1217"/>
                  </a:lnTo>
                  <a:lnTo>
                    <a:pt x="362" y="1217"/>
                  </a:lnTo>
                  <a:lnTo>
                    <a:pt x="362" y="1013"/>
                  </a:lnTo>
                  <a:lnTo>
                    <a:pt x="290" y="1013"/>
                  </a:lnTo>
                  <a:lnTo>
                    <a:pt x="258" y="915"/>
                  </a:lnTo>
                  <a:lnTo>
                    <a:pt x="112" y="915"/>
                  </a:lnTo>
                  <a:lnTo>
                    <a:pt x="112" y="829"/>
                  </a:lnTo>
                  <a:lnTo>
                    <a:pt x="0" y="829"/>
                  </a:lnTo>
                  <a:lnTo>
                    <a:pt x="0" y="425"/>
                  </a:lnTo>
                  <a:lnTo>
                    <a:pt x="110" y="425"/>
                  </a:lnTo>
                  <a:lnTo>
                    <a:pt x="110" y="366"/>
                  </a:lnTo>
                  <a:lnTo>
                    <a:pt x="233" y="366"/>
                  </a:lnTo>
                  <a:lnTo>
                    <a:pt x="263" y="340"/>
                  </a:lnTo>
                  <a:lnTo>
                    <a:pt x="292" y="275"/>
                  </a:lnTo>
                  <a:lnTo>
                    <a:pt x="362" y="275"/>
                  </a:lnTo>
                  <a:lnTo>
                    <a:pt x="529" y="0"/>
                  </a:lnTo>
                  <a:close/>
                </a:path>
              </a:pathLst>
            </a:custGeom>
            <a:solidFill>
              <a:srgbClr val="ff9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Freeform 6"/>
            <p:cNvSpPr/>
            <p:nvPr/>
          </p:nvSpPr>
          <p:spPr>
            <a:xfrm>
              <a:off x="540000" y="5641920"/>
              <a:ext cx="274320" cy="604800"/>
            </a:xfrm>
            <a:custGeom>
              <a:avLst/>
              <a:gdLst/>
              <a:ahLst/>
              <a:rect l="l" t="t" r="r" b="b"/>
              <a:pathLst>
                <a:path w="1476" h="2868">
                  <a:moveTo>
                    <a:pt x="529" y="0"/>
                  </a:moveTo>
                  <a:lnTo>
                    <a:pt x="974" y="0"/>
                  </a:lnTo>
                  <a:lnTo>
                    <a:pt x="890" y="110"/>
                  </a:lnTo>
                  <a:lnTo>
                    <a:pt x="630" y="110"/>
                  </a:lnTo>
                  <a:lnTo>
                    <a:pt x="532" y="286"/>
                  </a:lnTo>
                  <a:lnTo>
                    <a:pt x="979" y="286"/>
                  </a:lnTo>
                  <a:lnTo>
                    <a:pt x="888" y="112"/>
                  </a:lnTo>
                  <a:lnTo>
                    <a:pt x="974" y="2"/>
                  </a:lnTo>
                  <a:lnTo>
                    <a:pt x="1132" y="274"/>
                  </a:lnTo>
                  <a:lnTo>
                    <a:pt x="1214" y="275"/>
                  </a:lnTo>
                  <a:lnTo>
                    <a:pt x="1244" y="368"/>
                  </a:lnTo>
                  <a:lnTo>
                    <a:pt x="1376" y="368"/>
                  </a:lnTo>
                  <a:lnTo>
                    <a:pt x="1378" y="434"/>
                  </a:lnTo>
                  <a:lnTo>
                    <a:pt x="1427" y="435"/>
                  </a:lnTo>
                  <a:lnTo>
                    <a:pt x="1476" y="435"/>
                  </a:lnTo>
                  <a:lnTo>
                    <a:pt x="1476" y="836"/>
                  </a:lnTo>
                  <a:lnTo>
                    <a:pt x="1376" y="838"/>
                  </a:lnTo>
                  <a:lnTo>
                    <a:pt x="1374" y="922"/>
                  </a:lnTo>
                  <a:lnTo>
                    <a:pt x="1249" y="922"/>
                  </a:lnTo>
                  <a:lnTo>
                    <a:pt x="1213" y="1022"/>
                  </a:lnTo>
                  <a:lnTo>
                    <a:pt x="1144" y="1023"/>
                  </a:lnTo>
                  <a:lnTo>
                    <a:pt x="1139" y="1226"/>
                  </a:lnTo>
                  <a:lnTo>
                    <a:pt x="1092" y="1226"/>
                  </a:lnTo>
                  <a:lnTo>
                    <a:pt x="1080" y="1243"/>
                  </a:lnTo>
                  <a:lnTo>
                    <a:pt x="1080" y="1462"/>
                  </a:lnTo>
                  <a:lnTo>
                    <a:pt x="995" y="1462"/>
                  </a:lnTo>
                  <a:lnTo>
                    <a:pt x="1000" y="2683"/>
                  </a:lnTo>
                  <a:lnTo>
                    <a:pt x="804" y="2868"/>
                  </a:lnTo>
                  <a:lnTo>
                    <a:pt x="553" y="2655"/>
                  </a:lnTo>
                  <a:lnTo>
                    <a:pt x="642" y="2595"/>
                  </a:lnTo>
                  <a:lnTo>
                    <a:pt x="642" y="2524"/>
                  </a:lnTo>
                  <a:lnTo>
                    <a:pt x="553" y="2461"/>
                  </a:lnTo>
                  <a:lnTo>
                    <a:pt x="642" y="2406"/>
                  </a:lnTo>
                  <a:lnTo>
                    <a:pt x="629" y="2383"/>
                  </a:lnTo>
                  <a:lnTo>
                    <a:pt x="551" y="2334"/>
                  </a:lnTo>
                  <a:lnTo>
                    <a:pt x="538" y="2175"/>
                  </a:lnTo>
                  <a:lnTo>
                    <a:pt x="527" y="2162"/>
                  </a:lnTo>
                  <a:lnTo>
                    <a:pt x="644" y="2069"/>
                  </a:lnTo>
                  <a:lnTo>
                    <a:pt x="644" y="1990"/>
                  </a:lnTo>
                  <a:lnTo>
                    <a:pt x="551" y="1897"/>
                  </a:lnTo>
                  <a:lnTo>
                    <a:pt x="642" y="1814"/>
                  </a:lnTo>
                  <a:lnTo>
                    <a:pt x="642" y="1732"/>
                  </a:lnTo>
                  <a:lnTo>
                    <a:pt x="553" y="1625"/>
                  </a:lnTo>
                  <a:lnTo>
                    <a:pt x="536" y="1451"/>
                  </a:lnTo>
                  <a:lnTo>
                    <a:pt x="428" y="1451"/>
                  </a:lnTo>
                  <a:lnTo>
                    <a:pt x="428" y="1218"/>
                  </a:lnTo>
                  <a:lnTo>
                    <a:pt x="364" y="1218"/>
                  </a:lnTo>
                  <a:lnTo>
                    <a:pt x="364" y="1013"/>
                  </a:lnTo>
                  <a:lnTo>
                    <a:pt x="290" y="1013"/>
                  </a:lnTo>
                  <a:lnTo>
                    <a:pt x="258" y="915"/>
                  </a:lnTo>
                  <a:lnTo>
                    <a:pt x="112" y="915"/>
                  </a:lnTo>
                  <a:lnTo>
                    <a:pt x="112" y="829"/>
                  </a:lnTo>
                  <a:lnTo>
                    <a:pt x="0" y="829"/>
                  </a:lnTo>
                  <a:lnTo>
                    <a:pt x="0" y="425"/>
                  </a:lnTo>
                  <a:lnTo>
                    <a:pt x="110" y="425"/>
                  </a:lnTo>
                  <a:lnTo>
                    <a:pt x="110" y="367"/>
                  </a:lnTo>
                  <a:lnTo>
                    <a:pt x="234" y="367"/>
                  </a:lnTo>
                  <a:lnTo>
                    <a:pt x="263" y="341"/>
                  </a:lnTo>
                  <a:lnTo>
                    <a:pt x="292" y="275"/>
                  </a:lnTo>
                  <a:lnTo>
                    <a:pt x="364" y="275"/>
                  </a:lnTo>
                  <a:lnTo>
                    <a:pt x="529" y="0"/>
                  </a:lnTo>
                  <a:close/>
                </a:path>
              </a:pathLst>
            </a:custGeom>
            <a:solidFill>
              <a:srgbClr val="bf7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7" name="Group 7"/>
            <p:cNvGrpSpPr/>
            <p:nvPr/>
          </p:nvGrpSpPr>
          <p:grpSpPr>
            <a:xfrm>
              <a:off x="578520" y="5738760"/>
              <a:ext cx="208800" cy="69480"/>
              <a:chOff x="578520" y="5738760"/>
              <a:chExt cx="208800" cy="69480"/>
            </a:xfrm>
          </p:grpSpPr>
          <p:sp>
            <p:nvSpPr>
              <p:cNvPr id="158" name="Freeform 8"/>
              <p:cNvSpPr/>
              <p:nvPr/>
            </p:nvSpPr>
            <p:spPr>
              <a:xfrm>
                <a:off x="578520" y="5739120"/>
                <a:ext cx="193680" cy="69120"/>
              </a:xfrm>
              <a:custGeom>
                <a:avLst/>
                <a:gdLst/>
                <a:ahLst/>
                <a:rect l="l" t="t" r="r" b="b"/>
                <a:pathLst>
                  <a:path w="1043" h="329">
                    <a:moveTo>
                      <a:pt x="0" y="170"/>
                    </a:moveTo>
                    <a:lnTo>
                      <a:pt x="91" y="0"/>
                    </a:lnTo>
                    <a:lnTo>
                      <a:pt x="1043" y="0"/>
                    </a:lnTo>
                    <a:lnTo>
                      <a:pt x="1034" y="12"/>
                    </a:lnTo>
                    <a:lnTo>
                      <a:pt x="101" y="12"/>
                    </a:lnTo>
                    <a:lnTo>
                      <a:pt x="17" y="170"/>
                    </a:lnTo>
                    <a:lnTo>
                      <a:pt x="100" y="318"/>
                    </a:lnTo>
                    <a:lnTo>
                      <a:pt x="84" y="329"/>
                    </a:lnTo>
                    <a:lnTo>
                      <a:pt x="0" y="170"/>
                    </a:lnTo>
                    <a:close/>
                  </a:path>
                </a:pathLst>
              </a:custGeom>
              <a:solidFill>
                <a:srgbClr val="bf7f3f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Freeform 9"/>
              <p:cNvSpPr/>
              <p:nvPr/>
            </p:nvSpPr>
            <p:spPr>
              <a:xfrm>
                <a:off x="593640" y="5738760"/>
                <a:ext cx="193680" cy="69120"/>
              </a:xfrm>
              <a:custGeom>
                <a:avLst/>
                <a:gdLst/>
                <a:ahLst/>
                <a:rect l="l" t="t" r="r" b="b"/>
                <a:pathLst>
                  <a:path w="1042" h="329">
                    <a:moveTo>
                      <a:pt x="1042" y="157"/>
                    </a:moveTo>
                    <a:lnTo>
                      <a:pt x="951" y="329"/>
                    </a:lnTo>
                    <a:lnTo>
                      <a:pt x="0" y="329"/>
                    </a:lnTo>
                    <a:lnTo>
                      <a:pt x="8" y="317"/>
                    </a:lnTo>
                    <a:lnTo>
                      <a:pt x="941" y="317"/>
                    </a:lnTo>
                    <a:lnTo>
                      <a:pt x="1025" y="157"/>
                    </a:lnTo>
                    <a:lnTo>
                      <a:pt x="943" y="11"/>
                    </a:lnTo>
                    <a:lnTo>
                      <a:pt x="958" y="0"/>
                    </a:lnTo>
                    <a:lnTo>
                      <a:pt x="1042" y="157"/>
                    </a:lnTo>
                    <a:close/>
                  </a:path>
                </a:pathLst>
              </a:custGeom>
              <a:solidFill>
                <a:srgbClr val="ff9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0" name="Rectangle 10"/>
            <p:cNvSpPr/>
            <p:nvPr/>
          </p:nvSpPr>
          <p:spPr>
            <a:xfrm>
              <a:off x="561960" y="5728680"/>
              <a:ext cx="232560" cy="2880"/>
            </a:xfrm>
            <a:prstGeom prst="rect">
              <a:avLst/>
            </a:prstGeom>
            <a:solidFill>
              <a:srgbClr val="ff9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Rectangle 11"/>
            <p:cNvSpPr/>
            <p:nvPr/>
          </p:nvSpPr>
          <p:spPr>
            <a:xfrm>
              <a:off x="585000" y="5715000"/>
              <a:ext cx="181080" cy="3600"/>
            </a:xfrm>
            <a:prstGeom prst="rect">
              <a:avLst/>
            </a:prstGeom>
            <a:solidFill>
              <a:srgbClr val="ff9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2" name="Group 12"/>
            <p:cNvGrpSpPr/>
            <p:nvPr/>
          </p:nvGrpSpPr>
          <p:grpSpPr>
            <a:xfrm>
              <a:off x="561600" y="5817240"/>
              <a:ext cx="234000" cy="428400"/>
              <a:chOff x="561600" y="5817240"/>
              <a:chExt cx="234000" cy="428400"/>
            </a:xfrm>
          </p:grpSpPr>
          <p:sp>
            <p:nvSpPr>
              <p:cNvPr id="163" name="Freeform 13"/>
              <p:cNvSpPr/>
              <p:nvPr/>
            </p:nvSpPr>
            <p:spPr>
              <a:xfrm>
                <a:off x="668160" y="5901120"/>
                <a:ext cx="5760" cy="330120"/>
              </a:xfrm>
              <a:custGeom>
                <a:avLst/>
                <a:gdLst/>
                <a:ahLst/>
                <a:rect l="l" t="t" r="r" b="b"/>
                <a:pathLst>
                  <a:path w="32" h="1566">
                    <a:moveTo>
                      <a:pt x="32" y="0"/>
                    </a:moveTo>
                    <a:lnTo>
                      <a:pt x="31" y="1566"/>
                    </a:lnTo>
                    <a:lnTo>
                      <a:pt x="3" y="1542"/>
                    </a:lnTo>
                    <a:lnTo>
                      <a:pt x="0" y="4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9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Freeform 14"/>
              <p:cNvSpPr/>
              <p:nvPr/>
            </p:nvSpPr>
            <p:spPr>
              <a:xfrm>
                <a:off x="701640" y="5909400"/>
                <a:ext cx="5400" cy="322560"/>
              </a:xfrm>
              <a:custGeom>
                <a:avLst/>
                <a:gdLst/>
                <a:ahLst/>
                <a:rect l="l" t="t" r="r" b="b"/>
                <a:pathLst>
                  <a:path w="29" h="1529">
                    <a:moveTo>
                      <a:pt x="24" y="0"/>
                    </a:moveTo>
                    <a:lnTo>
                      <a:pt x="29" y="1503"/>
                    </a:lnTo>
                    <a:lnTo>
                      <a:pt x="4" y="1529"/>
                    </a:lnTo>
                    <a:lnTo>
                      <a:pt x="0" y="1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9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Group 15"/>
              <p:cNvGrpSpPr/>
              <p:nvPr/>
            </p:nvGrpSpPr>
            <p:grpSpPr>
              <a:xfrm>
                <a:off x="561600" y="5817240"/>
                <a:ext cx="234000" cy="428400"/>
                <a:chOff x="561600" y="5817240"/>
                <a:chExt cx="234000" cy="428400"/>
              </a:xfrm>
            </p:grpSpPr>
            <p:sp>
              <p:nvSpPr>
                <p:cNvPr id="166" name="Rectangle 16"/>
                <p:cNvSpPr/>
                <p:nvPr/>
              </p:nvSpPr>
              <p:spPr>
                <a:xfrm>
                  <a:off x="561600" y="5817240"/>
                  <a:ext cx="234000" cy="7920"/>
                </a:xfrm>
                <a:prstGeom prst="rect">
                  <a:avLst/>
                </a:prstGeom>
                <a:solidFill>
                  <a:srgbClr val="bf7f3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Rectangle 17"/>
                <p:cNvSpPr/>
                <p:nvPr/>
              </p:nvSpPr>
              <p:spPr>
                <a:xfrm>
                  <a:off x="609480" y="5857200"/>
                  <a:ext cx="142920" cy="6840"/>
                </a:xfrm>
                <a:prstGeom prst="rect">
                  <a:avLst/>
                </a:prstGeom>
                <a:solidFill>
                  <a:srgbClr val="bf7f3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Freeform 18"/>
                <p:cNvSpPr/>
                <p:nvPr/>
              </p:nvSpPr>
              <p:spPr>
                <a:xfrm>
                  <a:off x="688320" y="5910480"/>
                  <a:ext cx="17640" cy="335160"/>
                </a:xfrm>
                <a:custGeom>
                  <a:avLst/>
                  <a:gdLst/>
                  <a:ahLst/>
                  <a:rect l="l" t="t" r="r" b="b"/>
                  <a:pathLst>
                    <a:path w="96" h="1591">
                      <a:moveTo>
                        <a:pt x="96" y="0"/>
                      </a:moveTo>
                      <a:lnTo>
                        <a:pt x="74" y="104"/>
                      </a:lnTo>
                      <a:lnTo>
                        <a:pt x="36" y="193"/>
                      </a:lnTo>
                      <a:lnTo>
                        <a:pt x="36" y="1562"/>
                      </a:lnTo>
                      <a:lnTo>
                        <a:pt x="7" y="1591"/>
                      </a:lnTo>
                      <a:lnTo>
                        <a:pt x="0" y="167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Freeform 19"/>
                <p:cNvSpPr/>
                <p:nvPr/>
              </p:nvSpPr>
              <p:spPr>
                <a:xfrm>
                  <a:off x="619560" y="5898240"/>
                  <a:ext cx="124920" cy="50040"/>
                </a:xfrm>
                <a:custGeom>
                  <a:avLst/>
                  <a:gdLst/>
                  <a:ahLst/>
                  <a:rect l="l" t="t" r="r" b="b"/>
                  <a:pathLst>
                    <a:path w="671" h="239">
                      <a:moveTo>
                        <a:pt x="113" y="239"/>
                      </a:moveTo>
                      <a:lnTo>
                        <a:pt x="68" y="186"/>
                      </a:lnTo>
                      <a:lnTo>
                        <a:pt x="68" y="27"/>
                      </a:lnTo>
                      <a:lnTo>
                        <a:pt x="0" y="27"/>
                      </a:lnTo>
                      <a:lnTo>
                        <a:pt x="0" y="0"/>
                      </a:lnTo>
                      <a:lnTo>
                        <a:pt x="671" y="0"/>
                      </a:lnTo>
                      <a:lnTo>
                        <a:pt x="654" y="27"/>
                      </a:lnTo>
                      <a:lnTo>
                        <a:pt x="292" y="27"/>
                      </a:lnTo>
                      <a:lnTo>
                        <a:pt x="261" y="72"/>
                      </a:lnTo>
                      <a:lnTo>
                        <a:pt x="127" y="72"/>
                      </a:lnTo>
                      <a:lnTo>
                        <a:pt x="113" y="239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Freeform 20"/>
                <p:cNvSpPr/>
                <p:nvPr/>
              </p:nvSpPr>
              <p:spPr>
                <a:xfrm>
                  <a:off x="588240" y="5834160"/>
                  <a:ext cx="184680" cy="6480"/>
                </a:xfrm>
                <a:custGeom>
                  <a:avLst/>
                  <a:gdLst/>
                  <a:ahLst/>
                  <a:rect l="l" t="t" r="r" b="b"/>
                  <a:pathLst>
                    <a:path w="993" h="32">
                      <a:moveTo>
                        <a:pt x="0" y="1"/>
                      </a:moveTo>
                      <a:lnTo>
                        <a:pt x="993" y="0"/>
                      </a:lnTo>
                      <a:lnTo>
                        <a:pt x="983" y="31"/>
                      </a:lnTo>
                      <a:lnTo>
                        <a:pt x="9" y="3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Key Terms (cont.)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ivate carrie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O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ogistic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533520" y="5638680"/>
            <a:ext cx="280800" cy="608040"/>
            <a:chOff x="533520" y="5638680"/>
            <a:chExt cx="280800" cy="608040"/>
          </a:xfrm>
        </p:grpSpPr>
        <p:sp>
          <p:nvSpPr>
            <p:cNvPr id="175" name="Freeform 5"/>
            <p:cNvSpPr/>
            <p:nvPr/>
          </p:nvSpPr>
          <p:spPr>
            <a:xfrm>
              <a:off x="533520" y="5638680"/>
              <a:ext cx="273960" cy="604800"/>
            </a:xfrm>
            <a:custGeom>
              <a:avLst/>
              <a:gdLst/>
              <a:ahLst/>
              <a:rect l="l" t="t" r="r" b="b"/>
              <a:pathLst>
                <a:path w="1474" h="2866">
                  <a:moveTo>
                    <a:pt x="529" y="0"/>
                  </a:moveTo>
                  <a:lnTo>
                    <a:pt x="974" y="0"/>
                  </a:lnTo>
                  <a:lnTo>
                    <a:pt x="890" y="110"/>
                  </a:lnTo>
                  <a:lnTo>
                    <a:pt x="630" y="110"/>
                  </a:lnTo>
                  <a:lnTo>
                    <a:pt x="532" y="285"/>
                  </a:lnTo>
                  <a:lnTo>
                    <a:pt x="979" y="285"/>
                  </a:lnTo>
                  <a:lnTo>
                    <a:pt x="888" y="112"/>
                  </a:lnTo>
                  <a:lnTo>
                    <a:pt x="974" y="2"/>
                  </a:lnTo>
                  <a:lnTo>
                    <a:pt x="1130" y="273"/>
                  </a:lnTo>
                  <a:lnTo>
                    <a:pt x="1214" y="275"/>
                  </a:lnTo>
                  <a:lnTo>
                    <a:pt x="1244" y="368"/>
                  </a:lnTo>
                  <a:lnTo>
                    <a:pt x="1376" y="368"/>
                  </a:lnTo>
                  <a:lnTo>
                    <a:pt x="1378" y="433"/>
                  </a:lnTo>
                  <a:lnTo>
                    <a:pt x="1427" y="435"/>
                  </a:lnTo>
                  <a:lnTo>
                    <a:pt x="1474" y="435"/>
                  </a:lnTo>
                  <a:lnTo>
                    <a:pt x="1474" y="835"/>
                  </a:lnTo>
                  <a:lnTo>
                    <a:pt x="1376" y="837"/>
                  </a:lnTo>
                  <a:lnTo>
                    <a:pt x="1374" y="921"/>
                  </a:lnTo>
                  <a:lnTo>
                    <a:pt x="1249" y="921"/>
                  </a:lnTo>
                  <a:lnTo>
                    <a:pt x="1213" y="1021"/>
                  </a:lnTo>
                  <a:lnTo>
                    <a:pt x="1144" y="1023"/>
                  </a:lnTo>
                  <a:lnTo>
                    <a:pt x="1139" y="1226"/>
                  </a:lnTo>
                  <a:lnTo>
                    <a:pt x="1092" y="1226"/>
                  </a:lnTo>
                  <a:lnTo>
                    <a:pt x="1077" y="1257"/>
                  </a:lnTo>
                  <a:lnTo>
                    <a:pt x="1077" y="1460"/>
                  </a:lnTo>
                  <a:lnTo>
                    <a:pt x="994" y="1461"/>
                  </a:lnTo>
                  <a:lnTo>
                    <a:pt x="1000" y="2682"/>
                  </a:lnTo>
                  <a:lnTo>
                    <a:pt x="804" y="2866"/>
                  </a:lnTo>
                  <a:lnTo>
                    <a:pt x="553" y="2655"/>
                  </a:lnTo>
                  <a:lnTo>
                    <a:pt x="642" y="2594"/>
                  </a:lnTo>
                  <a:lnTo>
                    <a:pt x="642" y="2524"/>
                  </a:lnTo>
                  <a:lnTo>
                    <a:pt x="553" y="2460"/>
                  </a:lnTo>
                  <a:lnTo>
                    <a:pt x="642" y="2405"/>
                  </a:lnTo>
                  <a:lnTo>
                    <a:pt x="629" y="2383"/>
                  </a:lnTo>
                  <a:lnTo>
                    <a:pt x="551" y="2333"/>
                  </a:lnTo>
                  <a:lnTo>
                    <a:pt x="538" y="2175"/>
                  </a:lnTo>
                  <a:lnTo>
                    <a:pt x="527" y="2159"/>
                  </a:lnTo>
                  <a:lnTo>
                    <a:pt x="644" y="2068"/>
                  </a:lnTo>
                  <a:lnTo>
                    <a:pt x="644" y="1989"/>
                  </a:lnTo>
                  <a:lnTo>
                    <a:pt x="551" y="1896"/>
                  </a:lnTo>
                  <a:lnTo>
                    <a:pt x="642" y="1814"/>
                  </a:lnTo>
                  <a:lnTo>
                    <a:pt x="642" y="1731"/>
                  </a:lnTo>
                  <a:lnTo>
                    <a:pt x="553" y="1625"/>
                  </a:lnTo>
                  <a:lnTo>
                    <a:pt x="536" y="1451"/>
                  </a:lnTo>
                  <a:lnTo>
                    <a:pt x="428" y="1451"/>
                  </a:lnTo>
                  <a:lnTo>
                    <a:pt x="428" y="1217"/>
                  </a:lnTo>
                  <a:lnTo>
                    <a:pt x="362" y="1217"/>
                  </a:lnTo>
                  <a:lnTo>
                    <a:pt x="362" y="1013"/>
                  </a:lnTo>
                  <a:lnTo>
                    <a:pt x="290" y="1013"/>
                  </a:lnTo>
                  <a:lnTo>
                    <a:pt x="258" y="915"/>
                  </a:lnTo>
                  <a:lnTo>
                    <a:pt x="112" y="915"/>
                  </a:lnTo>
                  <a:lnTo>
                    <a:pt x="112" y="829"/>
                  </a:lnTo>
                  <a:lnTo>
                    <a:pt x="0" y="829"/>
                  </a:lnTo>
                  <a:lnTo>
                    <a:pt x="0" y="425"/>
                  </a:lnTo>
                  <a:lnTo>
                    <a:pt x="110" y="425"/>
                  </a:lnTo>
                  <a:lnTo>
                    <a:pt x="110" y="366"/>
                  </a:lnTo>
                  <a:lnTo>
                    <a:pt x="233" y="366"/>
                  </a:lnTo>
                  <a:lnTo>
                    <a:pt x="263" y="340"/>
                  </a:lnTo>
                  <a:lnTo>
                    <a:pt x="292" y="275"/>
                  </a:lnTo>
                  <a:lnTo>
                    <a:pt x="362" y="275"/>
                  </a:lnTo>
                  <a:lnTo>
                    <a:pt x="529" y="0"/>
                  </a:lnTo>
                  <a:close/>
                </a:path>
              </a:pathLst>
            </a:custGeom>
            <a:solidFill>
              <a:srgbClr val="ff9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6"/>
            <p:cNvSpPr/>
            <p:nvPr/>
          </p:nvSpPr>
          <p:spPr>
            <a:xfrm>
              <a:off x="540000" y="5641920"/>
              <a:ext cx="274320" cy="604800"/>
            </a:xfrm>
            <a:custGeom>
              <a:avLst/>
              <a:gdLst/>
              <a:ahLst/>
              <a:rect l="l" t="t" r="r" b="b"/>
              <a:pathLst>
                <a:path w="1476" h="2868">
                  <a:moveTo>
                    <a:pt x="529" y="0"/>
                  </a:moveTo>
                  <a:lnTo>
                    <a:pt x="974" y="0"/>
                  </a:lnTo>
                  <a:lnTo>
                    <a:pt x="890" y="110"/>
                  </a:lnTo>
                  <a:lnTo>
                    <a:pt x="630" y="110"/>
                  </a:lnTo>
                  <a:lnTo>
                    <a:pt x="532" y="286"/>
                  </a:lnTo>
                  <a:lnTo>
                    <a:pt x="979" y="286"/>
                  </a:lnTo>
                  <a:lnTo>
                    <a:pt x="888" y="112"/>
                  </a:lnTo>
                  <a:lnTo>
                    <a:pt x="974" y="2"/>
                  </a:lnTo>
                  <a:lnTo>
                    <a:pt x="1132" y="274"/>
                  </a:lnTo>
                  <a:lnTo>
                    <a:pt x="1214" y="275"/>
                  </a:lnTo>
                  <a:lnTo>
                    <a:pt x="1244" y="368"/>
                  </a:lnTo>
                  <a:lnTo>
                    <a:pt x="1376" y="368"/>
                  </a:lnTo>
                  <a:lnTo>
                    <a:pt x="1378" y="434"/>
                  </a:lnTo>
                  <a:lnTo>
                    <a:pt x="1427" y="435"/>
                  </a:lnTo>
                  <a:lnTo>
                    <a:pt x="1476" y="435"/>
                  </a:lnTo>
                  <a:lnTo>
                    <a:pt x="1476" y="836"/>
                  </a:lnTo>
                  <a:lnTo>
                    <a:pt x="1376" y="838"/>
                  </a:lnTo>
                  <a:lnTo>
                    <a:pt x="1374" y="922"/>
                  </a:lnTo>
                  <a:lnTo>
                    <a:pt x="1249" y="922"/>
                  </a:lnTo>
                  <a:lnTo>
                    <a:pt x="1213" y="1022"/>
                  </a:lnTo>
                  <a:lnTo>
                    <a:pt x="1144" y="1023"/>
                  </a:lnTo>
                  <a:lnTo>
                    <a:pt x="1139" y="1226"/>
                  </a:lnTo>
                  <a:lnTo>
                    <a:pt x="1092" y="1226"/>
                  </a:lnTo>
                  <a:lnTo>
                    <a:pt x="1080" y="1243"/>
                  </a:lnTo>
                  <a:lnTo>
                    <a:pt x="1080" y="1462"/>
                  </a:lnTo>
                  <a:lnTo>
                    <a:pt x="995" y="1462"/>
                  </a:lnTo>
                  <a:lnTo>
                    <a:pt x="1000" y="2683"/>
                  </a:lnTo>
                  <a:lnTo>
                    <a:pt x="804" y="2868"/>
                  </a:lnTo>
                  <a:lnTo>
                    <a:pt x="553" y="2655"/>
                  </a:lnTo>
                  <a:lnTo>
                    <a:pt x="642" y="2595"/>
                  </a:lnTo>
                  <a:lnTo>
                    <a:pt x="642" y="2524"/>
                  </a:lnTo>
                  <a:lnTo>
                    <a:pt x="553" y="2461"/>
                  </a:lnTo>
                  <a:lnTo>
                    <a:pt x="642" y="2406"/>
                  </a:lnTo>
                  <a:lnTo>
                    <a:pt x="629" y="2383"/>
                  </a:lnTo>
                  <a:lnTo>
                    <a:pt x="551" y="2334"/>
                  </a:lnTo>
                  <a:lnTo>
                    <a:pt x="538" y="2175"/>
                  </a:lnTo>
                  <a:lnTo>
                    <a:pt x="527" y="2162"/>
                  </a:lnTo>
                  <a:lnTo>
                    <a:pt x="644" y="2069"/>
                  </a:lnTo>
                  <a:lnTo>
                    <a:pt x="644" y="1990"/>
                  </a:lnTo>
                  <a:lnTo>
                    <a:pt x="551" y="1897"/>
                  </a:lnTo>
                  <a:lnTo>
                    <a:pt x="642" y="1814"/>
                  </a:lnTo>
                  <a:lnTo>
                    <a:pt x="642" y="1732"/>
                  </a:lnTo>
                  <a:lnTo>
                    <a:pt x="553" y="1625"/>
                  </a:lnTo>
                  <a:lnTo>
                    <a:pt x="536" y="1451"/>
                  </a:lnTo>
                  <a:lnTo>
                    <a:pt x="428" y="1451"/>
                  </a:lnTo>
                  <a:lnTo>
                    <a:pt x="428" y="1218"/>
                  </a:lnTo>
                  <a:lnTo>
                    <a:pt x="364" y="1218"/>
                  </a:lnTo>
                  <a:lnTo>
                    <a:pt x="364" y="1013"/>
                  </a:lnTo>
                  <a:lnTo>
                    <a:pt x="290" y="1013"/>
                  </a:lnTo>
                  <a:lnTo>
                    <a:pt x="258" y="915"/>
                  </a:lnTo>
                  <a:lnTo>
                    <a:pt x="112" y="915"/>
                  </a:lnTo>
                  <a:lnTo>
                    <a:pt x="112" y="829"/>
                  </a:lnTo>
                  <a:lnTo>
                    <a:pt x="0" y="829"/>
                  </a:lnTo>
                  <a:lnTo>
                    <a:pt x="0" y="425"/>
                  </a:lnTo>
                  <a:lnTo>
                    <a:pt x="110" y="425"/>
                  </a:lnTo>
                  <a:lnTo>
                    <a:pt x="110" y="367"/>
                  </a:lnTo>
                  <a:lnTo>
                    <a:pt x="234" y="367"/>
                  </a:lnTo>
                  <a:lnTo>
                    <a:pt x="263" y="341"/>
                  </a:lnTo>
                  <a:lnTo>
                    <a:pt x="292" y="275"/>
                  </a:lnTo>
                  <a:lnTo>
                    <a:pt x="364" y="275"/>
                  </a:lnTo>
                  <a:lnTo>
                    <a:pt x="529" y="0"/>
                  </a:lnTo>
                  <a:close/>
                </a:path>
              </a:pathLst>
            </a:custGeom>
            <a:solidFill>
              <a:srgbClr val="bf7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7" name="Group 7"/>
            <p:cNvGrpSpPr/>
            <p:nvPr/>
          </p:nvGrpSpPr>
          <p:grpSpPr>
            <a:xfrm>
              <a:off x="578520" y="5738760"/>
              <a:ext cx="208800" cy="69480"/>
              <a:chOff x="578520" y="5738760"/>
              <a:chExt cx="208800" cy="69480"/>
            </a:xfrm>
          </p:grpSpPr>
          <p:sp>
            <p:nvSpPr>
              <p:cNvPr id="178" name="Freeform 8"/>
              <p:cNvSpPr/>
              <p:nvPr/>
            </p:nvSpPr>
            <p:spPr>
              <a:xfrm>
                <a:off x="578520" y="5739120"/>
                <a:ext cx="193680" cy="69120"/>
              </a:xfrm>
              <a:custGeom>
                <a:avLst/>
                <a:gdLst/>
                <a:ahLst/>
                <a:rect l="l" t="t" r="r" b="b"/>
                <a:pathLst>
                  <a:path w="1043" h="329">
                    <a:moveTo>
                      <a:pt x="0" y="170"/>
                    </a:moveTo>
                    <a:lnTo>
                      <a:pt x="91" y="0"/>
                    </a:lnTo>
                    <a:lnTo>
                      <a:pt x="1043" y="0"/>
                    </a:lnTo>
                    <a:lnTo>
                      <a:pt x="1034" y="12"/>
                    </a:lnTo>
                    <a:lnTo>
                      <a:pt x="101" y="12"/>
                    </a:lnTo>
                    <a:lnTo>
                      <a:pt x="17" y="170"/>
                    </a:lnTo>
                    <a:lnTo>
                      <a:pt x="100" y="318"/>
                    </a:lnTo>
                    <a:lnTo>
                      <a:pt x="84" y="329"/>
                    </a:lnTo>
                    <a:lnTo>
                      <a:pt x="0" y="170"/>
                    </a:lnTo>
                    <a:close/>
                  </a:path>
                </a:pathLst>
              </a:custGeom>
              <a:solidFill>
                <a:srgbClr val="bf7f3f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Freeform 9"/>
              <p:cNvSpPr/>
              <p:nvPr/>
            </p:nvSpPr>
            <p:spPr>
              <a:xfrm>
                <a:off x="593640" y="5738760"/>
                <a:ext cx="193680" cy="69120"/>
              </a:xfrm>
              <a:custGeom>
                <a:avLst/>
                <a:gdLst/>
                <a:ahLst/>
                <a:rect l="l" t="t" r="r" b="b"/>
                <a:pathLst>
                  <a:path w="1042" h="329">
                    <a:moveTo>
                      <a:pt x="1042" y="157"/>
                    </a:moveTo>
                    <a:lnTo>
                      <a:pt x="951" y="329"/>
                    </a:lnTo>
                    <a:lnTo>
                      <a:pt x="0" y="329"/>
                    </a:lnTo>
                    <a:lnTo>
                      <a:pt x="8" y="317"/>
                    </a:lnTo>
                    <a:lnTo>
                      <a:pt x="941" y="317"/>
                    </a:lnTo>
                    <a:lnTo>
                      <a:pt x="1025" y="157"/>
                    </a:lnTo>
                    <a:lnTo>
                      <a:pt x="943" y="11"/>
                    </a:lnTo>
                    <a:lnTo>
                      <a:pt x="958" y="0"/>
                    </a:lnTo>
                    <a:lnTo>
                      <a:pt x="1042" y="157"/>
                    </a:lnTo>
                    <a:close/>
                  </a:path>
                </a:pathLst>
              </a:custGeom>
              <a:solidFill>
                <a:srgbClr val="ff9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0" name="Rectangle 10"/>
            <p:cNvSpPr/>
            <p:nvPr/>
          </p:nvSpPr>
          <p:spPr>
            <a:xfrm>
              <a:off x="561960" y="5728680"/>
              <a:ext cx="232560" cy="2880"/>
            </a:xfrm>
            <a:prstGeom prst="rect">
              <a:avLst/>
            </a:prstGeom>
            <a:solidFill>
              <a:srgbClr val="ff9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Rectangle 11"/>
            <p:cNvSpPr/>
            <p:nvPr/>
          </p:nvSpPr>
          <p:spPr>
            <a:xfrm>
              <a:off x="585000" y="5715000"/>
              <a:ext cx="181080" cy="3600"/>
            </a:xfrm>
            <a:prstGeom prst="rect">
              <a:avLst/>
            </a:prstGeom>
            <a:solidFill>
              <a:srgbClr val="ff9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2" name="Group 12"/>
            <p:cNvGrpSpPr/>
            <p:nvPr/>
          </p:nvGrpSpPr>
          <p:grpSpPr>
            <a:xfrm>
              <a:off x="561600" y="5817240"/>
              <a:ext cx="234000" cy="428400"/>
              <a:chOff x="561600" y="5817240"/>
              <a:chExt cx="234000" cy="428400"/>
            </a:xfrm>
          </p:grpSpPr>
          <p:sp>
            <p:nvSpPr>
              <p:cNvPr id="183" name="Freeform 13"/>
              <p:cNvSpPr/>
              <p:nvPr/>
            </p:nvSpPr>
            <p:spPr>
              <a:xfrm>
                <a:off x="668160" y="5901120"/>
                <a:ext cx="5760" cy="330120"/>
              </a:xfrm>
              <a:custGeom>
                <a:avLst/>
                <a:gdLst/>
                <a:ahLst/>
                <a:rect l="l" t="t" r="r" b="b"/>
                <a:pathLst>
                  <a:path w="32" h="1566">
                    <a:moveTo>
                      <a:pt x="32" y="0"/>
                    </a:moveTo>
                    <a:lnTo>
                      <a:pt x="31" y="1566"/>
                    </a:lnTo>
                    <a:lnTo>
                      <a:pt x="3" y="1542"/>
                    </a:lnTo>
                    <a:lnTo>
                      <a:pt x="0" y="4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9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Freeform 14"/>
              <p:cNvSpPr/>
              <p:nvPr/>
            </p:nvSpPr>
            <p:spPr>
              <a:xfrm>
                <a:off x="701640" y="5909400"/>
                <a:ext cx="5400" cy="322560"/>
              </a:xfrm>
              <a:custGeom>
                <a:avLst/>
                <a:gdLst/>
                <a:ahLst/>
                <a:rect l="l" t="t" r="r" b="b"/>
                <a:pathLst>
                  <a:path w="29" h="1529">
                    <a:moveTo>
                      <a:pt x="24" y="0"/>
                    </a:moveTo>
                    <a:lnTo>
                      <a:pt x="29" y="1503"/>
                    </a:lnTo>
                    <a:lnTo>
                      <a:pt x="4" y="1529"/>
                    </a:lnTo>
                    <a:lnTo>
                      <a:pt x="0" y="1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9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5" name="Group 15"/>
              <p:cNvGrpSpPr/>
              <p:nvPr/>
            </p:nvGrpSpPr>
            <p:grpSpPr>
              <a:xfrm>
                <a:off x="561600" y="5817240"/>
                <a:ext cx="234000" cy="428400"/>
                <a:chOff x="561600" y="5817240"/>
                <a:chExt cx="234000" cy="428400"/>
              </a:xfrm>
            </p:grpSpPr>
            <p:sp>
              <p:nvSpPr>
                <p:cNvPr id="186" name="Rectangle 16"/>
                <p:cNvSpPr/>
                <p:nvPr/>
              </p:nvSpPr>
              <p:spPr>
                <a:xfrm>
                  <a:off x="561600" y="5817240"/>
                  <a:ext cx="234000" cy="7920"/>
                </a:xfrm>
                <a:prstGeom prst="rect">
                  <a:avLst/>
                </a:prstGeom>
                <a:solidFill>
                  <a:srgbClr val="bf7f3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Rectangle 17"/>
                <p:cNvSpPr/>
                <p:nvPr/>
              </p:nvSpPr>
              <p:spPr>
                <a:xfrm>
                  <a:off x="609480" y="5857200"/>
                  <a:ext cx="142920" cy="6840"/>
                </a:xfrm>
                <a:prstGeom prst="rect">
                  <a:avLst/>
                </a:prstGeom>
                <a:solidFill>
                  <a:srgbClr val="bf7f3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Freeform 18"/>
                <p:cNvSpPr/>
                <p:nvPr/>
              </p:nvSpPr>
              <p:spPr>
                <a:xfrm>
                  <a:off x="688320" y="5910480"/>
                  <a:ext cx="17640" cy="335160"/>
                </a:xfrm>
                <a:custGeom>
                  <a:avLst/>
                  <a:gdLst/>
                  <a:ahLst/>
                  <a:rect l="l" t="t" r="r" b="b"/>
                  <a:pathLst>
                    <a:path w="96" h="1591">
                      <a:moveTo>
                        <a:pt x="96" y="0"/>
                      </a:moveTo>
                      <a:lnTo>
                        <a:pt x="74" y="104"/>
                      </a:lnTo>
                      <a:lnTo>
                        <a:pt x="36" y="193"/>
                      </a:lnTo>
                      <a:lnTo>
                        <a:pt x="36" y="1562"/>
                      </a:lnTo>
                      <a:lnTo>
                        <a:pt x="7" y="1591"/>
                      </a:lnTo>
                      <a:lnTo>
                        <a:pt x="0" y="167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Freeform 19"/>
                <p:cNvSpPr/>
                <p:nvPr/>
              </p:nvSpPr>
              <p:spPr>
                <a:xfrm>
                  <a:off x="619560" y="5898240"/>
                  <a:ext cx="124920" cy="50040"/>
                </a:xfrm>
                <a:custGeom>
                  <a:avLst/>
                  <a:gdLst/>
                  <a:ahLst/>
                  <a:rect l="l" t="t" r="r" b="b"/>
                  <a:pathLst>
                    <a:path w="671" h="239">
                      <a:moveTo>
                        <a:pt x="113" y="239"/>
                      </a:moveTo>
                      <a:lnTo>
                        <a:pt x="68" y="186"/>
                      </a:lnTo>
                      <a:lnTo>
                        <a:pt x="68" y="27"/>
                      </a:lnTo>
                      <a:lnTo>
                        <a:pt x="0" y="27"/>
                      </a:lnTo>
                      <a:lnTo>
                        <a:pt x="0" y="0"/>
                      </a:lnTo>
                      <a:lnTo>
                        <a:pt x="671" y="0"/>
                      </a:lnTo>
                      <a:lnTo>
                        <a:pt x="654" y="27"/>
                      </a:lnTo>
                      <a:lnTo>
                        <a:pt x="292" y="27"/>
                      </a:lnTo>
                      <a:lnTo>
                        <a:pt x="261" y="72"/>
                      </a:lnTo>
                      <a:lnTo>
                        <a:pt x="127" y="72"/>
                      </a:lnTo>
                      <a:lnTo>
                        <a:pt x="113" y="239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Freeform 20"/>
                <p:cNvSpPr/>
                <p:nvPr/>
              </p:nvSpPr>
              <p:spPr>
                <a:xfrm>
                  <a:off x="588240" y="5834160"/>
                  <a:ext cx="184680" cy="6480"/>
                </a:xfrm>
                <a:custGeom>
                  <a:avLst/>
                  <a:gdLst/>
                  <a:ahLst/>
                  <a:rect l="l" t="t" r="r" b="b"/>
                  <a:pathLst>
                    <a:path w="993" h="32">
                      <a:moveTo>
                        <a:pt x="0" y="1"/>
                      </a:moveTo>
                      <a:lnTo>
                        <a:pt x="993" y="0"/>
                      </a:lnTo>
                      <a:lnTo>
                        <a:pt x="983" y="31"/>
                      </a:lnTo>
                      <a:lnTo>
                        <a:pt x="9" y="3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08576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43040" indent="0">
              <a:spcBef>
                <a:spcPts val="1100"/>
              </a:spcBef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I.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PRODUCT MANAGE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nce a prototype is developed, plan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production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.2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Production and Distribution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6T19:31:39Z</dcterms:created>
  <dc:creator>glencoe-91</dc:creator>
  <dc:description/>
  <dc:language>en-US</dc:language>
  <cp:lastModifiedBy>Mr. Johnson</cp:lastModifiedBy>
  <cp:lastPrinted>1999-04-22T22:54:03Z</cp:lastPrinted>
  <dcterms:modified xsi:type="dcterms:W3CDTF">2013-10-01T13:12:01Z</dcterms:modified>
  <cp:revision>108</cp:revision>
  <dc:subject/>
  <dc:title>1.1           What Is Entrepreneurship?</dc:title>
</cp:coreProperties>
</file>